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91819-1880-409A-847B-148ACEEC3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1FB9B-A912-4172-B7CC-EE64739A85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F9EB8-5EA1-422E-BAC0-7A849EDA2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D43E-321E-4AA2-BEAE-788719063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13BA4-11D7-4A5B-BC96-BEBF30962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0EB12-2412-42CA-B83A-F79657843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76251-458A-4C45-BF18-22D6D342A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3293D-D222-4C0D-AB62-4E960E361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A1D86-C992-4806-8AC2-EF4BD8E8F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43D68-F0F8-4358-AC7C-8739B6E14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EC24-0A19-4137-B0C2-B315B799F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021B3-9C82-445D-9F94-C23D8E0D7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D5624-A966-4CB5-A138-820F31ABB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91677-0436-46D9-BD5C-D13F4A831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F8BA2-BE54-4BE6-B5BA-B230E8C77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29D0B-B677-42CE-B5F5-1306E7583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9C716-0DEA-4470-B78F-8A194579B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02CF1-3CB3-4288-A9A5-E67B85E0A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16C11-1568-4473-997E-73401C054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BAC40-F84E-480F-8E0B-3D0C70753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8B7D-C99B-4602-91DF-F55943895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8D56F-B255-4846-9F39-57D496A69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6199F-3B69-489A-A6FA-12C1E3B3C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68012-B150-4DBF-9ECB-E071810DB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84761-25EE-49C9-BA2E-800FE03D3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0892F-AAE6-4A4D-B8D2-8103F0BD6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F559A-09C6-4020-9133-1F98F180B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C9DD-6D37-4418-876D-35792CDA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D3B03-B9E1-42DE-BD3B-A762D80B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595EF-D125-4350-ACF3-1E801705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5A21-046B-4BE3-A860-C55A8AC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1741F-5351-41DD-8033-A0BD951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AC236-19A0-4C56-AB02-EFB4DA9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5E6D-AD37-4237-80AC-6357CC74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2BB6-A27D-4859-9791-5A5DA8B0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61D16-FBAF-4AAA-8FAC-DE3C0694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E8B5E-72FB-4EEE-B5ED-1E176E72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FF505-04F2-47FF-BA61-6ECE449E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84362-362C-4A0B-A6A4-D16E2FA0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4D430-FCAF-4336-990C-322D47A4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11B62-FAFD-42B6-AE62-E64B9ED5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13A35-6281-4CA8-96DF-3833D3B3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11AC9-775C-4AC8-B1A5-E6A45C6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8E39B-419B-4BC8-AA4E-58434480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BBDC-1738-4400-9D23-6000570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B1D2-A71C-4557-8EAA-33AA5BF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E300A-83BE-4AF0-A22B-F751FA9E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49505-73D2-49B2-A448-1E62BE2F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023A9-AB8E-4DFF-AF0F-62847F68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5CC28-1410-4D0F-B335-C0BB768F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9E00B-B086-4CEF-B2FD-2763E24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83A6A-D4EF-48BD-B253-E6E2BCD4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60B29-6B39-4676-8803-EEC5B8AA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1687-A5EE-44EA-BD27-39029A0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29C1A-CF29-4092-BC76-4F4775B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FC7C-E7AC-45FF-A9A3-7CDCB52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2252C-A435-418C-ACD4-66BBA00E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4FE-F98D-41B7-8EC2-914C5101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A5E82-955B-4F64-A9DA-4BDC5606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5B8AF-4F69-4237-8936-BFF9C793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F5231-13D5-4059-9448-2BA7EED4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E4FE1-7976-44C5-8053-8D356BC6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E819F-0384-4465-B148-CAA6DD9B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E8449-97C4-4BB5-B2A0-B7E7352C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E9CE-2EE8-4C89-810A-CFC7A2A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B79B5-91E2-4B14-8096-96A53E9F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11E8-207F-4323-AB74-8ADCD25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F8695-0785-4889-AE54-1040B5BF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39B-B7DC-45CA-83F1-2250906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07D8-8972-4D2D-AC5B-371C324E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ED57-AC48-46F3-8049-2F947484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0AEE-1300-4152-ABAC-CF1097D3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53F76-BDCF-4C67-9C80-1C8AB89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EBB10-487D-4DCE-A3D1-7A51647A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3FC6B-93FA-47B5-870E-3E985AD0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3BF4A-58F2-4D12-B31B-BA082BC5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05C9B-2A38-4546-AD9C-65A600AC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2335C-0948-4F2B-9FE1-55B1075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44B2E-6FF0-4E5C-8EAB-40347BC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667-18A4-4707-9963-ADE3270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F4183-F554-4746-B1C2-D9CFA6F9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0371F-BEF0-4894-9736-6B40BEB0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CADAD-8771-4EEF-B8C4-E7B50DED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9681D-5C55-4E20-885D-8EA449C1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F99AC-5902-4E0F-96C3-8DF41EB6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5E932-111D-4C94-A784-6E85253A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0FE1C-525B-4FA7-A599-2F5FADD3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F83-B120-410E-A5A7-23C7CB89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0F2-F322-40E0-AA35-ED61B94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01F-F4EE-4FB6-B2D4-44F9D5DA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74F-8C33-43CF-A53F-48DFB92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86A-AB9C-4F94-8750-4D20E19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612-3BDE-4980-A95C-04DF4FB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D29-2F5D-4198-B973-0473729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531-03AF-47AA-8B28-A038733E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ECC-62B7-4930-84B0-E86B6011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2002-C8A3-4C77-A368-A103912A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93F3-9D13-4D9D-852B-3EA0B633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68E5-2285-46B8-9BAD-10597FA6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8053-6231-4000-8E64-A70055A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3B14-62C6-4E35-B02F-DDE781F0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B57-721B-4116-9376-5EC229F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382-36B2-4508-BF96-569A550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379-1ABC-408E-807F-12753F33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61CA-8106-4CF5-9F1D-C03552C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80FC-2491-4E60-867E-84DE8BF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EED4-6400-4097-9E92-CDD79838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9DC-E239-4D6D-86D4-77C69B10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B342-D19B-48EE-BAD8-CFC13F17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58F2-710A-45B5-9532-BE7723F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F2482-52D7-45C9-9CCA-8DF1F0F1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1010-79FA-4FDE-868F-BA44D39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73DA-7DCC-47B4-8735-FFFC825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2F47-94A9-4921-BAE3-92278C0C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A5CA-6997-4471-9E5D-FA5D1686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9E50-4559-487D-9B29-33A85F80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A196-1A6E-470A-9715-5F1F668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D608-A5B2-44CC-AE2E-4574270A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E25D-90C6-4409-8027-483F3197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5F43-1A34-4461-9E0B-A7FA9F80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EB6C-1C42-4A10-95E3-ED69124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B694-7357-46E8-AB22-DB172DD1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D682-06B6-4C0B-92B0-83804E5A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7A5A-E0B5-461F-A7D6-E99E87D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8127-8639-431D-BE9A-D29627F9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DC55-FA0A-482B-9B6A-2933CD9A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66B1-C33D-403D-9322-E103B63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796D-EBBB-48A7-810B-E1A0E9C4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DE5E-57DF-460C-B6E9-336CE05F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ABD76-8314-412E-A0D9-A7311B6F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1771-6F16-45BD-9524-8E484AF3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5D22-02AA-4715-87B5-9A6B35C7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0C60B-536B-41DF-AA59-8A2BE18C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9071-4037-4B18-AAA2-CFBA7B35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766C7-4F04-479B-856A-2F2CC29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418F6-0307-4ADB-A4E6-478B8BA6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1897-D0BF-44E1-8A47-67FDB08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F8F2F-8FD3-409E-8309-3F52BA52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7071-7E2E-4CFB-BAFE-10AB173A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ABA8-ACBB-47AB-BF27-28EF4DDA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A243-F73C-4AF8-BA19-7BF13410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16D9-DE22-48ED-B967-2E233804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3436B-025E-407B-A212-7F573B2E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DB89E-24DB-47D9-BD31-2E5B78F0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546FA-B484-4B00-AAAE-3C5AEF6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8139-E3B6-40F2-AAFC-384CB10F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7535D-1720-4CEE-9ABB-E0CD65C5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01356-C5C5-469A-8A6A-3447F104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B7DC-1508-4807-AB9D-7B09A03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EAF8-A6A1-4B49-8F3E-5ACBCE8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08CD-2D77-4B98-820F-CDA58BF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4A4D4-16AE-4EBA-AD70-FB09959C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66B58-0520-4806-BD1C-82C8FCE7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5809-958A-4AA5-B07E-638E4236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1B41-EC4E-4D4F-8362-72812113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9CFC-290F-4016-A0C1-0AC78BEF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78AC-AD71-49C8-8F80-79209C7E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2868-EC1C-4933-8A21-5869401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76DA-508E-406B-A112-85D9995B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EDDF0-046D-492D-9607-E57EFC87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33DC5-8D00-4603-A32A-39944FE6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6E712-ADAA-4741-BC31-46CFBF9C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D2967-03FA-4BB5-BD08-23E2979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3B61-B948-4DD2-AAAC-2B4DB81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627C0-1593-43AA-A51F-3F623D1B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B5852-C541-4969-A4E7-6775FA87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37D10-98C8-414F-A444-1B07C1F9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4DFE-DF33-4317-AAF9-4BDFFF6C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5CFF-C800-4199-84E4-8CCA5AE0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3B4EA-5426-4C34-9194-7363451C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1AC8-488B-46D9-8B9F-D43B24C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BCE8C66-4859-4567-A109-E2191CF340E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96F87FD-326F-4735-8E79-6B7370C6284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AABD8FA-312C-4D76-92AC-084F38FD835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151FC1B-78DE-4954-B67A-056C48F90F3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AB94333B-389A-47CB-A40C-BEA39F97E2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D53780A-E55B-421D-948E-AEC169C286A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70CEDC0-12CF-4B8A-9F59-3BEBBE1885E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9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0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E30FDB4C-5DBC-49E7-A17D-3F0511913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D03FFE34-DE64-4E3D-8531-981E78AD3CC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A12296F-9AFE-40B7-85D5-A85E8861707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4BAD03CE-7DCB-451A-B120-8D7A7AA7B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5F0A160-0E2A-411A-B0D8-4B964D1F91C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29D5F77-807B-4CE4-82AC-6916D78571F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00EF1F6-20EB-46F4-9B3C-880D60E0A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D4B9E886-DAA8-4A27-8102-7F5AB49A4C0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3DF0DAF-2052-4AF1-9230-8C5EF3BF6CB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EB7CC6B4-4466-494E-BDA3-B015101DDF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F6C5628-B359-46D8-821E-97EC50495C5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FA815CB-1AB3-4EDE-A3EA-C6F60F7BD35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8C9A57F8-6C63-468C-A986-1F6CAE467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F40F979-E881-4833-85EE-CE3D6992487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49FCC91-D097-4B03-82CD-3C7AB457D4A8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70A82ECF-A6E8-4F23-80F2-73F208B334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DFF8878-6B2D-4CD8-924E-249F4684012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C463571-DA3B-4050-AE56-B849EAA7C91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9A3B4335-2763-44D2-B991-96BA4F3C97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373FD5E-F6AB-4C38-B657-C40E09072EB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A0C4B10-5546-446C-9311-E24F850065A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55939ABA-544C-4DF7-80FB-BB5BB5508D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A5200EB-198F-40D8-B775-01757A887B46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A36C545-A3B8-42AC-8123-11D8E2625EE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3ABFB4E-E6E9-43A7-8E8E-F18466BCC0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CE139E4-A8D3-46C6-9B03-775D6625BD7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88A938E-A131-413C-A0FB-400F40763449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8AD1E418-0B0D-48A5-90B6-F24D17817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177840" y="6500880"/>
            <a:ext cx="10843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97E4B8F4-0B65-4317-B01C-55750A009B6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3EA69A8-E138-4D85-8DC2-371E9B0EDDA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8170560" y="6400800"/>
            <a:ext cx="5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6300F18-FF4A-48CF-8500-91263F1974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Espaço Reservado para Rodapé 2"/>
          <p:cNvSpPr/>
          <p:nvPr/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9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Gerenciamen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de r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0" y="219708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1064148-5598-4BD3-A166-153D262CF44F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IB do SNM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9" name="Oval 6"/>
          <p:cNvSpPr/>
          <p:nvPr/>
        </p:nvSpPr>
        <p:spPr>
          <a:xfrm>
            <a:off x="3274920" y="3348000"/>
            <a:ext cx="2351160" cy="642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3567960" y="338760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CT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7"/>
          <p:cNvSpPr/>
          <p:nvPr/>
        </p:nvSpPr>
        <p:spPr>
          <a:xfrm>
            <a:off x="4000680" y="378468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8"/>
          <p:cNvSpPr/>
          <p:nvPr/>
        </p:nvSpPr>
        <p:spPr>
          <a:xfrm>
            <a:off x="4013280" y="384192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9"/>
          <p:cNvSpPr/>
          <p:nvPr/>
        </p:nvSpPr>
        <p:spPr>
          <a:xfrm>
            <a:off x="4025880" y="389880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12"/>
          <p:cNvSpPr/>
          <p:nvPr/>
        </p:nvSpPr>
        <p:spPr>
          <a:xfrm>
            <a:off x="2023920" y="3722760"/>
            <a:ext cx="2351160" cy="642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2316960" y="37623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CT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4"/>
          <p:cNvSpPr/>
          <p:nvPr/>
        </p:nvSpPr>
        <p:spPr>
          <a:xfrm>
            <a:off x="2749680" y="415908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5"/>
          <p:cNvSpPr/>
          <p:nvPr/>
        </p:nvSpPr>
        <p:spPr>
          <a:xfrm>
            <a:off x="2762280" y="421632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2774880" y="427356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18"/>
          <p:cNvSpPr/>
          <p:nvPr/>
        </p:nvSpPr>
        <p:spPr>
          <a:xfrm>
            <a:off x="3541680" y="3830760"/>
            <a:ext cx="2351160" cy="642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9"/>
          <p:cNvSpPr/>
          <p:nvPr/>
        </p:nvSpPr>
        <p:spPr>
          <a:xfrm>
            <a:off x="3834360" y="38703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CT 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4267080" y="426708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21"/>
          <p:cNvSpPr/>
          <p:nvPr/>
        </p:nvSpPr>
        <p:spPr>
          <a:xfrm>
            <a:off x="4280040" y="432432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2"/>
          <p:cNvSpPr/>
          <p:nvPr/>
        </p:nvSpPr>
        <p:spPr>
          <a:xfrm>
            <a:off x="4292640" y="4381560"/>
            <a:ext cx="9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23"/>
          <p:cNvSpPr/>
          <p:nvPr/>
        </p:nvSpPr>
        <p:spPr>
          <a:xfrm>
            <a:off x="1746360" y="3222720"/>
            <a:ext cx="4924440" cy="1400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5"/>
          <p:cNvSpPr/>
          <p:nvPr/>
        </p:nvSpPr>
        <p:spPr>
          <a:xfrm>
            <a:off x="4460760" y="5168880"/>
            <a:ext cx="468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os especificados via S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trução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OBJECT-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6"/>
          <p:cNvSpPr/>
          <p:nvPr/>
        </p:nvSpPr>
        <p:spPr>
          <a:xfrm>
            <a:off x="477720" y="1389240"/>
            <a:ext cx="49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7"/>
          <p:cNvSpPr/>
          <p:nvPr/>
        </p:nvSpPr>
        <p:spPr>
          <a:xfrm>
            <a:off x="422280" y="1405080"/>
            <a:ext cx="70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ódulo MIB especificado via S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ODULE-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100 MIBs padronizadas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s específica do fornece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8"/>
          <p:cNvSpPr/>
          <p:nvPr/>
        </p:nvSpPr>
        <p:spPr>
          <a:xfrm>
            <a:off x="2478240" y="2174760"/>
            <a:ext cx="172800" cy="1181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9"/>
          <p:cNvSpPr/>
          <p:nvPr/>
        </p:nvSpPr>
        <p:spPr>
          <a:xfrm flipH="1" flipV="1">
            <a:off x="3231720" y="4424040"/>
            <a:ext cx="738360" cy="105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30"/>
          <p:cNvSpPr/>
          <p:nvPr/>
        </p:nvSpPr>
        <p:spPr>
          <a:xfrm flipV="1">
            <a:off x="3979800" y="4174920"/>
            <a:ext cx="7920" cy="131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1"/>
          <p:cNvSpPr/>
          <p:nvPr/>
        </p:nvSpPr>
        <p:spPr>
          <a:xfrm flipH="1" flipV="1">
            <a:off x="3632040" y="3610080"/>
            <a:ext cx="333360" cy="1885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32"/>
          <p:cNvSpPr/>
          <p:nvPr/>
        </p:nvSpPr>
        <p:spPr>
          <a:xfrm>
            <a:off x="3960720" y="5486400"/>
            <a:ext cx="527040" cy="12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Group 35"/>
          <p:cNvGrpSpPr/>
          <p:nvPr/>
        </p:nvGrpSpPr>
        <p:grpSpPr>
          <a:xfrm>
            <a:off x="1698480" y="3247920"/>
            <a:ext cx="1468440" cy="459720"/>
            <a:chOff x="1698480" y="3247920"/>
            <a:chExt cx="1468440" cy="459720"/>
          </a:xfrm>
        </p:grpSpPr>
        <p:sp>
          <p:nvSpPr>
            <p:cNvPr id="734" name="Rectangle 34"/>
            <p:cNvSpPr/>
            <p:nvPr/>
          </p:nvSpPr>
          <p:spPr>
            <a:xfrm>
              <a:off x="1722240" y="3316320"/>
              <a:ext cx="13813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33"/>
            <p:cNvSpPr/>
            <p:nvPr/>
          </p:nvSpPr>
          <p:spPr>
            <a:xfrm>
              <a:off x="1698480" y="324792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3344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I: Exemplos de obje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módu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37600" y="1562040"/>
            <a:ext cx="417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OBJECT-TYPE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pInDel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57600" y="1550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MODULE-IDENTITY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pMI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380880" y="2460600"/>
            <a:ext cx="4077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pInDelivers OBJ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YNTAX       Counter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X-ACCESS   read-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  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úmero total de datagra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entrada entregues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cesso aos protocolos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usuário IP (incluindo ICMP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:= { ip   9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4714920" y="2098800"/>
            <a:ext cx="396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pMIB MODULE-ID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T-UPDATED “941101000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ZATION “IETF SNPv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orking Grou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ACT-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“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Keith McClogh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……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módulo MIB para geren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lementações IP e ICMP, 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cluindo seu gerenciamen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otas IP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VISION “019331000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…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:= {mib-2 48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MIB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ódulo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78000" y="1657440"/>
            <a:ext cx="851508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ID do Objeto  Nome                Tipo           Coment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3.6.1.2.1.7.1     UDPInDatagrams  Counter32   # total de datagra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tregues neste n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3.6.1.2.1.7.2    UDPNoPorts          Counter32   # datagramas sem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apl. na por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3.6.1.2.1.7.3    UDInErrors           Counter32   # datagramas sem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s os outros mo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3.6.1.2.1.7.4    UDPOutDatagrams Counter32  # datagramas env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3.6.1.2.1.7.5     udpTabl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uma entrada para cada p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 uso pela apl., dá # de p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 endereço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omeação do SNM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728280" y="1420560"/>
            <a:ext cx="80326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ergun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nomear cada objeto padrão possível (protocolo, dados, mais..) em cada padrão de rede possível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sposta: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ISO Object Identifier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ação hierárquica de todos os obje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onto de ramo tem nome e núm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5"/>
          <p:cNvSpPr/>
          <p:nvPr/>
        </p:nvSpPr>
        <p:spPr>
          <a:xfrm>
            <a:off x="3059280" y="42958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1.3.6.1.2.1.7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6"/>
          <p:cNvSpPr/>
          <p:nvPr/>
        </p:nvSpPr>
        <p:spPr>
          <a:xfrm>
            <a:off x="517680" y="4863960"/>
            <a:ext cx="232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O-ident.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 D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Group 42"/>
          <p:cNvGrpSpPr/>
          <p:nvPr/>
        </p:nvGrpSpPr>
        <p:grpSpPr>
          <a:xfrm>
            <a:off x="2914560" y="4699080"/>
            <a:ext cx="1251000" cy="1504800"/>
            <a:chOff x="2914560" y="4699080"/>
            <a:chExt cx="1251000" cy="1504800"/>
          </a:xfrm>
        </p:grpSpPr>
        <p:sp>
          <p:nvSpPr>
            <p:cNvPr id="748" name="Freeform 37"/>
            <p:cNvSpPr/>
            <p:nvPr/>
          </p:nvSpPr>
          <p:spPr>
            <a:xfrm>
              <a:off x="2933640" y="4743360"/>
              <a:ext cx="330120" cy="3366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8" h="212">
                  <a:moveTo>
                    <a:pt x="0" y="212"/>
                  </a:moveTo>
                  <a:lnTo>
                    <a:pt x="100" y="212"/>
                  </a:ln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38"/>
            <p:cNvSpPr/>
            <p:nvPr/>
          </p:nvSpPr>
          <p:spPr>
            <a:xfrm>
              <a:off x="2914560" y="4699080"/>
              <a:ext cx="647640" cy="79380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408" h="500">
                  <a:moveTo>
                    <a:pt x="0" y="500"/>
                  </a:moveTo>
                  <a:lnTo>
                    <a:pt x="160" y="500"/>
                  </a:lnTo>
                  <a:lnTo>
                    <a:pt x="4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39"/>
            <p:cNvSpPr/>
            <p:nvPr/>
          </p:nvSpPr>
          <p:spPr>
            <a:xfrm>
              <a:off x="2933640" y="4749840"/>
              <a:ext cx="882720" cy="1092240"/>
            </a:xfrm>
            <a:custGeom>
              <a:avLst/>
              <a:gdLst>
                <a:gd name="textAreaLeft" fmla="*/ 0 w 882720"/>
                <a:gd name="textAreaRight" fmla="*/ 883080 w 8827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688">
                  <a:moveTo>
                    <a:pt x="0" y="688"/>
                  </a:moveTo>
                  <a:lnTo>
                    <a:pt x="200" y="688"/>
                  </a:lnTo>
                  <a:lnTo>
                    <a:pt x="5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40"/>
            <p:cNvSpPr/>
            <p:nvPr/>
          </p:nvSpPr>
          <p:spPr>
            <a:xfrm>
              <a:off x="2921040" y="4762440"/>
              <a:ext cx="1244520" cy="14414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w="784" h="908">
                  <a:moveTo>
                    <a:pt x="0" y="908"/>
                  </a:moveTo>
                  <a:lnTo>
                    <a:pt x="260" y="908"/>
                  </a:lnTo>
                  <a:lnTo>
                    <a:pt x="7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43"/>
          <p:cNvGrpSpPr/>
          <p:nvPr/>
        </p:nvGrpSpPr>
        <p:grpSpPr>
          <a:xfrm>
            <a:off x="4425480" y="4724280"/>
            <a:ext cx="1251000" cy="1504800"/>
            <a:chOff x="4425480" y="4724280"/>
            <a:chExt cx="1251000" cy="1504800"/>
          </a:xfrm>
        </p:grpSpPr>
        <p:sp>
          <p:nvSpPr>
            <p:cNvPr id="753" name="Freeform 44"/>
            <p:cNvSpPr/>
            <p:nvPr/>
          </p:nvSpPr>
          <p:spPr>
            <a:xfrm flipH="1">
              <a:off x="5326920" y="4768560"/>
              <a:ext cx="330120" cy="336600"/>
            </a:xfrm>
            <a:custGeom>
              <a:avLst/>
              <a:gdLst>
                <a:gd name="textAreaLeft" fmla="*/ -360 w 330120"/>
                <a:gd name="textAreaRight" fmla="*/ 330120 w 330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08" h="212">
                  <a:moveTo>
                    <a:pt x="0" y="212"/>
                  </a:moveTo>
                  <a:lnTo>
                    <a:pt x="100" y="212"/>
                  </a:ln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45"/>
            <p:cNvSpPr/>
            <p:nvPr/>
          </p:nvSpPr>
          <p:spPr>
            <a:xfrm flipH="1">
              <a:off x="5028480" y="4724280"/>
              <a:ext cx="647640" cy="793800"/>
            </a:xfrm>
            <a:custGeom>
              <a:avLst/>
              <a:gdLst>
                <a:gd name="textAreaLeft" fmla="*/ -360 w 647640"/>
                <a:gd name="textAreaRight" fmla="*/ 647640 w 647640"/>
                <a:gd name="textAreaTop" fmla="*/ 0 h 793800"/>
                <a:gd name="textAreaBottom" fmla="*/ 794160 h 793800"/>
              </a:gdLst>
              <a:ahLst/>
              <a:rect l="textAreaLeft" t="textAreaTop" r="textAreaRight" b="textAreaBottom"/>
              <a:pathLst>
                <a:path w="408" h="500">
                  <a:moveTo>
                    <a:pt x="0" y="500"/>
                  </a:moveTo>
                  <a:lnTo>
                    <a:pt x="160" y="500"/>
                  </a:lnTo>
                  <a:lnTo>
                    <a:pt x="40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46"/>
            <p:cNvSpPr/>
            <p:nvPr/>
          </p:nvSpPr>
          <p:spPr>
            <a:xfrm flipH="1">
              <a:off x="4774680" y="4775040"/>
              <a:ext cx="882720" cy="109224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688">
                  <a:moveTo>
                    <a:pt x="0" y="688"/>
                  </a:moveTo>
                  <a:lnTo>
                    <a:pt x="200" y="688"/>
                  </a:lnTo>
                  <a:lnTo>
                    <a:pt x="55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47"/>
            <p:cNvSpPr/>
            <p:nvPr/>
          </p:nvSpPr>
          <p:spPr>
            <a:xfrm flipH="1">
              <a:off x="4425120" y="4787640"/>
              <a:ext cx="1244520" cy="1441440"/>
            </a:xfrm>
            <a:custGeom>
              <a:avLst/>
              <a:gdLst>
                <a:gd name="textAreaLeft" fmla="*/ -360 w 1244520"/>
                <a:gd name="textAreaRight" fmla="*/ 1244520 w 124452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w="784" h="908">
                  <a:moveTo>
                    <a:pt x="0" y="908"/>
                  </a:moveTo>
                  <a:lnTo>
                    <a:pt x="260" y="908"/>
                  </a:lnTo>
                  <a:lnTo>
                    <a:pt x="7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Text Box 48"/>
          <p:cNvSpPr/>
          <p:nvPr/>
        </p:nvSpPr>
        <p:spPr>
          <a:xfrm>
            <a:off x="5640840" y="4844880"/>
            <a:ext cx="262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dpInDat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I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re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262440" y="599760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erifique em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www.alvestrand.no/harald/objectid/top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5" descr="08-03"/>
          <p:cNvPicPr/>
          <p:nvPr/>
        </p:nvPicPr>
        <p:blipFill>
          <a:blip r:embed="rId1"/>
          <a:stretch/>
        </p:blipFill>
        <p:spPr>
          <a:xfrm>
            <a:off x="2355840" y="1430280"/>
            <a:ext cx="4422960" cy="457200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58360" y="433440"/>
            <a:ext cx="526572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Árvore de identificador de objeto ISO</a:t>
            </a:r>
            <a:br>
              <a:rPr sz="32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SNM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34440" y="1422360"/>
            <a:ext cx="861228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formas de transportar informações e comandos MIB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Freeform 4"/>
          <p:cNvSpPr/>
          <p:nvPr/>
        </p:nvSpPr>
        <p:spPr>
          <a:xfrm>
            <a:off x="1816200" y="1994040"/>
            <a:ext cx="2354040" cy="357012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3570120"/>
              <a:gd name="textAreaBottom" fmla="*/ 3570480 h 3570120"/>
            </a:gdLst>
            <a:ahLst/>
            <a:rect l="textAreaLeft" t="textAreaTop" r="textAreaRight" b="textAreaBottom"/>
            <a:pathLst>
              <a:path w="1483" h="2249">
                <a:moveTo>
                  <a:pt x="122" y="283"/>
                </a:moveTo>
                <a:cubicBezTo>
                  <a:pt x="187" y="38"/>
                  <a:pt x="362" y="81"/>
                  <a:pt x="487" y="41"/>
                </a:cubicBezTo>
                <a:cubicBezTo>
                  <a:pt x="612" y="1"/>
                  <a:pt x="730" y="28"/>
                  <a:pt x="872" y="41"/>
                </a:cubicBezTo>
                <a:cubicBezTo>
                  <a:pt x="1014" y="54"/>
                  <a:pt x="1249" y="0"/>
                  <a:pt x="1338" y="122"/>
                </a:cubicBezTo>
                <a:cubicBezTo>
                  <a:pt x="1427" y="244"/>
                  <a:pt x="1389" y="565"/>
                  <a:pt x="1405" y="774"/>
                </a:cubicBezTo>
                <a:cubicBezTo>
                  <a:pt x="1421" y="983"/>
                  <a:pt x="1433" y="1179"/>
                  <a:pt x="1435" y="1374"/>
                </a:cubicBezTo>
                <a:cubicBezTo>
                  <a:pt x="1437" y="1569"/>
                  <a:pt x="1483" y="1822"/>
                  <a:pt x="1420" y="1945"/>
                </a:cubicBezTo>
                <a:cubicBezTo>
                  <a:pt x="1357" y="2068"/>
                  <a:pt x="1169" y="2064"/>
                  <a:pt x="1057" y="2115"/>
                </a:cubicBezTo>
                <a:cubicBezTo>
                  <a:pt x="945" y="2166"/>
                  <a:pt x="904" y="2249"/>
                  <a:pt x="746" y="2249"/>
                </a:cubicBezTo>
                <a:cubicBezTo>
                  <a:pt x="588" y="2249"/>
                  <a:pt x="218" y="2238"/>
                  <a:pt x="109" y="2115"/>
                </a:cubicBezTo>
                <a:cubicBezTo>
                  <a:pt x="0" y="1992"/>
                  <a:pt x="92" y="1813"/>
                  <a:pt x="94" y="1508"/>
                </a:cubicBezTo>
                <a:cubicBezTo>
                  <a:pt x="96" y="1203"/>
                  <a:pt x="52" y="561"/>
                  <a:pt x="122" y="283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Object 5" descr=""/>
          <p:cNvPicPr/>
          <p:nvPr/>
        </p:nvPicPr>
        <p:blipFill>
          <a:blip r:embed="rId1"/>
          <a:stretch/>
        </p:blipFill>
        <p:spPr>
          <a:xfrm>
            <a:off x="3174840" y="2271600"/>
            <a:ext cx="738360" cy="633600"/>
          </a:xfrm>
          <a:prstGeom prst="rect">
            <a:avLst/>
          </a:prstGeom>
          <a:ln w="0">
            <a:noFill/>
          </a:ln>
        </p:spPr>
      </p:pic>
      <p:sp>
        <p:nvSpPr>
          <p:cNvPr id="765" name="Line 6"/>
          <p:cNvSpPr/>
          <p:nvPr/>
        </p:nvSpPr>
        <p:spPr>
          <a:xfrm flipV="1">
            <a:off x="3122640" y="2595600"/>
            <a:ext cx="84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reeform 7"/>
          <p:cNvSpPr/>
          <p:nvPr/>
        </p:nvSpPr>
        <p:spPr>
          <a:xfrm>
            <a:off x="3117960" y="2576520"/>
            <a:ext cx="4680" cy="2570040"/>
          </a:xfrm>
          <a:custGeom>
            <a:avLst/>
            <a:gdLst>
              <a:gd name="textAreaLeft" fmla="*/ 0 w 4680"/>
              <a:gd name="textAreaRight" fmla="*/ 5040 w 4680"/>
              <a:gd name="textAreaTop" fmla="*/ 0 h 2570040"/>
              <a:gd name="textAreaBottom" fmla="*/ 2570400 h 2570040"/>
            </a:gdLst>
            <a:ahLst/>
            <a:rect l="textAreaLeft" t="textAreaTop" r="textAreaRight" b="textAreaBottom"/>
            <a:pathLst>
              <a:path w="3" h="1619">
                <a:moveTo>
                  <a:pt x="0" y="0"/>
                </a:moveTo>
                <a:lnTo>
                  <a:pt x="3" y="161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 flipV="1">
            <a:off x="2766960" y="286812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4"/>
          <p:cNvSpPr/>
          <p:nvPr/>
        </p:nvSpPr>
        <p:spPr>
          <a:xfrm flipV="1">
            <a:off x="3127320" y="343332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5"/>
          <p:cNvSpPr/>
          <p:nvPr/>
        </p:nvSpPr>
        <p:spPr>
          <a:xfrm flipV="1">
            <a:off x="3706920" y="3433320"/>
            <a:ext cx="350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6"/>
          <p:cNvSpPr/>
          <p:nvPr/>
        </p:nvSpPr>
        <p:spPr>
          <a:xfrm flipV="1">
            <a:off x="2766960" y="513684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28"/>
          <p:cNvSpPr/>
          <p:nvPr/>
        </p:nvSpPr>
        <p:spPr>
          <a:xfrm>
            <a:off x="2205000" y="5092560"/>
            <a:ext cx="569880" cy="160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9"/>
          <p:cNvSpPr/>
          <p:nvPr/>
        </p:nvSpPr>
        <p:spPr>
          <a:xfrm>
            <a:off x="2205000" y="5079960"/>
            <a:ext cx="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0"/>
          <p:cNvSpPr/>
          <p:nvPr/>
        </p:nvSpPr>
        <p:spPr>
          <a:xfrm>
            <a:off x="2774880" y="5079960"/>
            <a:ext cx="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1"/>
          <p:cNvSpPr/>
          <p:nvPr/>
        </p:nvSpPr>
        <p:spPr>
          <a:xfrm>
            <a:off x="2205000" y="5079960"/>
            <a:ext cx="565200" cy="9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32"/>
          <p:cNvSpPr/>
          <p:nvPr/>
        </p:nvSpPr>
        <p:spPr>
          <a:xfrm>
            <a:off x="2200320" y="4964040"/>
            <a:ext cx="569880" cy="187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33"/>
          <p:cNvGrpSpPr/>
          <p:nvPr/>
        </p:nvGrpSpPr>
        <p:grpSpPr>
          <a:xfrm>
            <a:off x="2336760" y="5005440"/>
            <a:ext cx="281880" cy="109440"/>
            <a:chOff x="2336760" y="5005440"/>
            <a:chExt cx="281880" cy="109440"/>
          </a:xfrm>
        </p:grpSpPr>
        <p:sp>
          <p:nvSpPr>
            <p:cNvPr id="777" name="Line 34"/>
            <p:cNvSpPr/>
            <p:nvPr/>
          </p:nvSpPr>
          <p:spPr>
            <a:xfrm flipV="1">
              <a:off x="2336760" y="5005440"/>
              <a:ext cx="10044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2530080" y="5114880"/>
              <a:ext cx="8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2429640" y="5007600"/>
              <a:ext cx="104760" cy="10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37"/>
          <p:cNvGrpSpPr/>
          <p:nvPr/>
        </p:nvGrpSpPr>
        <p:grpSpPr>
          <a:xfrm>
            <a:off x="2336760" y="5003280"/>
            <a:ext cx="281880" cy="109800"/>
            <a:chOff x="2336760" y="5003280"/>
            <a:chExt cx="281880" cy="109800"/>
          </a:xfrm>
        </p:grpSpPr>
        <p:sp>
          <p:nvSpPr>
            <p:cNvPr id="781" name="Line 38"/>
            <p:cNvSpPr/>
            <p:nvPr/>
          </p:nvSpPr>
          <p:spPr>
            <a:xfrm>
              <a:off x="2336760" y="5110920"/>
              <a:ext cx="10044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9"/>
            <p:cNvSpPr/>
            <p:nvPr/>
          </p:nvSpPr>
          <p:spPr>
            <a:xfrm>
              <a:off x="2530080" y="5003280"/>
              <a:ext cx="8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40"/>
            <p:cNvSpPr/>
            <p:nvPr/>
          </p:nvSpPr>
          <p:spPr>
            <a:xfrm flipV="1">
              <a:off x="2429640" y="5003640"/>
              <a:ext cx="104760" cy="1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Line 41"/>
          <p:cNvSpPr/>
          <p:nvPr/>
        </p:nvSpPr>
        <p:spPr>
          <a:xfrm flipV="1">
            <a:off x="1851120" y="5130360"/>
            <a:ext cx="3506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2"/>
          <p:cNvSpPr/>
          <p:nvPr/>
        </p:nvSpPr>
        <p:spPr>
          <a:xfrm flipV="1">
            <a:off x="3137040" y="4728960"/>
            <a:ext cx="3506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Object 43" descr=""/>
          <p:cNvPicPr/>
          <p:nvPr/>
        </p:nvPicPr>
        <p:blipFill>
          <a:blip r:embed="rId2"/>
          <a:stretch/>
        </p:blipFill>
        <p:spPr>
          <a:xfrm>
            <a:off x="2079720" y="2585880"/>
            <a:ext cx="738000" cy="633600"/>
          </a:xfrm>
          <a:prstGeom prst="rect">
            <a:avLst/>
          </a:prstGeom>
          <a:ln w="0">
            <a:noFill/>
          </a:ln>
        </p:spPr>
      </p:pic>
      <p:grpSp>
        <p:nvGrpSpPr>
          <p:cNvPr id="787" name="Group 84"/>
          <p:cNvGrpSpPr/>
          <p:nvPr/>
        </p:nvGrpSpPr>
        <p:grpSpPr>
          <a:xfrm>
            <a:off x="890640" y="4475160"/>
            <a:ext cx="1739880" cy="626760"/>
            <a:chOff x="890640" y="4475160"/>
            <a:chExt cx="1739880" cy="626760"/>
          </a:xfrm>
        </p:grpSpPr>
        <p:sp>
          <p:nvSpPr>
            <p:cNvPr id="788" name="Oval 45"/>
            <p:cNvSpPr/>
            <p:nvPr/>
          </p:nvSpPr>
          <p:spPr>
            <a:xfrm>
              <a:off x="925560" y="4475160"/>
              <a:ext cx="1704960" cy="626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46"/>
            <p:cNvSpPr/>
            <p:nvPr/>
          </p:nvSpPr>
          <p:spPr>
            <a:xfrm>
              <a:off x="890640" y="458280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Group 47"/>
            <p:cNvGrpSpPr/>
            <p:nvPr/>
          </p:nvGrpSpPr>
          <p:grpSpPr>
            <a:xfrm>
              <a:off x="1637280" y="4586040"/>
              <a:ext cx="837720" cy="387360"/>
              <a:chOff x="1637280" y="4586040"/>
              <a:chExt cx="837720" cy="387360"/>
            </a:xfrm>
          </p:grpSpPr>
          <p:sp>
            <p:nvSpPr>
              <p:cNvPr id="791" name="Rectangle 48"/>
              <p:cNvSpPr/>
              <p:nvPr/>
            </p:nvSpPr>
            <p:spPr>
              <a:xfrm>
                <a:off x="1764000" y="460188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49"/>
              <p:cNvSpPr/>
              <p:nvPr/>
            </p:nvSpPr>
            <p:spPr>
              <a:xfrm>
                <a:off x="1637280" y="458604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3" name="Text Box 69"/>
          <p:cNvSpPr/>
          <p:nvPr/>
        </p:nvSpPr>
        <p:spPr>
          <a:xfrm>
            <a:off x="1288080" y="525924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75"/>
          <p:cNvSpPr/>
          <p:nvPr/>
        </p:nvSpPr>
        <p:spPr>
          <a:xfrm>
            <a:off x="1143000" y="2801880"/>
            <a:ext cx="1440" cy="1657440"/>
          </a:xfrm>
          <a:custGeom>
            <a:avLst/>
            <a:gdLst>
              <a:gd name="textAreaLeft" fmla="*/ 0 w 1440"/>
              <a:gd name="textAreaRight" fmla="*/ 1800 w 144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1" h="1044">
                <a:moveTo>
                  <a:pt x="0" y="0"/>
                </a:moveTo>
                <a:lnTo>
                  <a:pt x="0" y="1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7"/>
          <p:cNvSpPr/>
          <p:nvPr/>
        </p:nvSpPr>
        <p:spPr>
          <a:xfrm>
            <a:off x="839880" y="2273400"/>
            <a:ext cx="1941480" cy="59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78"/>
          <p:cNvSpPr/>
          <p:nvPr/>
        </p:nvSpPr>
        <p:spPr>
          <a:xfrm>
            <a:off x="977040" y="220680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tida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erencia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Object 23" descr=""/>
          <p:cNvPicPr/>
          <p:nvPr/>
        </p:nvPicPr>
        <p:blipFill>
          <a:blip r:embed="rId3"/>
          <a:stretch/>
        </p:blipFill>
        <p:spPr>
          <a:xfrm>
            <a:off x="3282840" y="4429080"/>
            <a:ext cx="738360" cy="63360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85"/>
          <p:cNvGrpSpPr/>
          <p:nvPr/>
        </p:nvGrpSpPr>
        <p:grpSpPr>
          <a:xfrm>
            <a:off x="3306600" y="3278160"/>
            <a:ext cx="574920" cy="288720"/>
            <a:chOff x="3306600" y="3278160"/>
            <a:chExt cx="574920" cy="288720"/>
          </a:xfrm>
        </p:grpSpPr>
        <p:sp>
          <p:nvSpPr>
            <p:cNvPr id="799" name="Oval 9"/>
            <p:cNvSpPr/>
            <p:nvPr/>
          </p:nvSpPr>
          <p:spPr>
            <a:xfrm>
              <a:off x="3311280" y="3406680"/>
              <a:ext cx="570240" cy="160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0"/>
            <p:cNvSpPr/>
            <p:nvPr/>
          </p:nvSpPr>
          <p:spPr>
            <a:xfrm>
              <a:off x="3311280" y="339408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1"/>
            <p:cNvSpPr/>
            <p:nvPr/>
          </p:nvSpPr>
          <p:spPr>
            <a:xfrm>
              <a:off x="3881520" y="339408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12"/>
            <p:cNvSpPr/>
            <p:nvPr/>
          </p:nvSpPr>
          <p:spPr>
            <a:xfrm>
              <a:off x="3311280" y="3394080"/>
              <a:ext cx="565200" cy="9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3306600" y="3278160"/>
              <a:ext cx="569880" cy="187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Group 14"/>
            <p:cNvGrpSpPr/>
            <p:nvPr/>
          </p:nvGrpSpPr>
          <p:grpSpPr>
            <a:xfrm>
              <a:off x="3443040" y="3319200"/>
              <a:ext cx="281880" cy="109800"/>
              <a:chOff x="3443040" y="3319200"/>
              <a:chExt cx="281880" cy="109800"/>
            </a:xfrm>
          </p:grpSpPr>
          <p:sp>
            <p:nvSpPr>
              <p:cNvPr id="805" name="Line 15"/>
              <p:cNvSpPr/>
              <p:nvPr/>
            </p:nvSpPr>
            <p:spPr>
              <a:xfrm flipV="1">
                <a:off x="3443040" y="331920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16"/>
              <p:cNvSpPr/>
              <p:nvPr/>
            </p:nvSpPr>
            <p:spPr>
              <a:xfrm>
                <a:off x="3636360" y="342900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17"/>
              <p:cNvSpPr/>
              <p:nvPr/>
            </p:nvSpPr>
            <p:spPr>
              <a:xfrm>
                <a:off x="3535920" y="3321360"/>
                <a:ext cx="104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18"/>
            <p:cNvGrpSpPr/>
            <p:nvPr/>
          </p:nvGrpSpPr>
          <p:grpSpPr>
            <a:xfrm>
              <a:off x="3443040" y="3317760"/>
              <a:ext cx="281880" cy="109440"/>
              <a:chOff x="3443040" y="3317760"/>
              <a:chExt cx="281880" cy="109440"/>
            </a:xfrm>
          </p:grpSpPr>
          <p:sp>
            <p:nvSpPr>
              <p:cNvPr id="809" name="Line 19"/>
              <p:cNvSpPr/>
              <p:nvPr/>
            </p:nvSpPr>
            <p:spPr>
              <a:xfrm>
                <a:off x="3443040" y="342504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0"/>
              <p:cNvSpPr/>
              <p:nvPr/>
            </p:nvSpPr>
            <p:spPr>
              <a:xfrm>
                <a:off x="3636360" y="331776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1"/>
              <p:cNvSpPr/>
              <p:nvPr/>
            </p:nvSpPr>
            <p:spPr>
              <a:xfrm flipV="1">
                <a:off x="3535920" y="3318120"/>
                <a:ext cx="10476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2" name="Freeform 89"/>
          <p:cNvSpPr/>
          <p:nvPr/>
        </p:nvSpPr>
        <p:spPr>
          <a:xfrm>
            <a:off x="1905120" y="2968560"/>
            <a:ext cx="74520" cy="1467000"/>
          </a:xfrm>
          <a:custGeom>
            <a:avLst/>
            <a:gdLst>
              <a:gd name="textAreaLeft" fmla="*/ 0 w 74520"/>
              <a:gd name="textAreaRight" fmla="*/ 74880 w 7452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1" h="1044">
                <a:moveTo>
                  <a:pt x="0" y="0"/>
                </a:moveTo>
                <a:lnTo>
                  <a:pt x="0" y="1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91"/>
          <p:cNvSpPr/>
          <p:nvPr/>
        </p:nvSpPr>
        <p:spPr>
          <a:xfrm>
            <a:off x="1508040" y="3895560"/>
            <a:ext cx="1422360" cy="387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92"/>
          <p:cNvSpPr/>
          <p:nvPr/>
        </p:nvSpPr>
        <p:spPr>
          <a:xfrm>
            <a:off x="1087560" y="385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reeform 95"/>
          <p:cNvSpPr/>
          <p:nvPr/>
        </p:nvSpPr>
        <p:spPr>
          <a:xfrm>
            <a:off x="5954760" y="1967040"/>
            <a:ext cx="2354040" cy="357012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3570120"/>
              <a:gd name="textAreaBottom" fmla="*/ 3570480 h 3570120"/>
            </a:gdLst>
            <a:ahLst/>
            <a:rect l="textAreaLeft" t="textAreaTop" r="textAreaRight" b="textAreaBottom"/>
            <a:pathLst>
              <a:path w="1483" h="2249">
                <a:moveTo>
                  <a:pt x="122" y="283"/>
                </a:moveTo>
                <a:cubicBezTo>
                  <a:pt x="187" y="38"/>
                  <a:pt x="362" y="81"/>
                  <a:pt x="487" y="41"/>
                </a:cubicBezTo>
                <a:cubicBezTo>
                  <a:pt x="612" y="1"/>
                  <a:pt x="730" y="28"/>
                  <a:pt x="872" y="41"/>
                </a:cubicBezTo>
                <a:cubicBezTo>
                  <a:pt x="1014" y="54"/>
                  <a:pt x="1249" y="0"/>
                  <a:pt x="1338" y="122"/>
                </a:cubicBezTo>
                <a:cubicBezTo>
                  <a:pt x="1427" y="244"/>
                  <a:pt x="1389" y="565"/>
                  <a:pt x="1405" y="774"/>
                </a:cubicBezTo>
                <a:cubicBezTo>
                  <a:pt x="1421" y="983"/>
                  <a:pt x="1433" y="1179"/>
                  <a:pt x="1435" y="1374"/>
                </a:cubicBezTo>
                <a:cubicBezTo>
                  <a:pt x="1437" y="1569"/>
                  <a:pt x="1483" y="1822"/>
                  <a:pt x="1420" y="1945"/>
                </a:cubicBezTo>
                <a:cubicBezTo>
                  <a:pt x="1357" y="2068"/>
                  <a:pt x="1169" y="2064"/>
                  <a:pt x="1057" y="2115"/>
                </a:cubicBezTo>
                <a:cubicBezTo>
                  <a:pt x="945" y="2166"/>
                  <a:pt x="904" y="2249"/>
                  <a:pt x="746" y="2249"/>
                </a:cubicBezTo>
                <a:cubicBezTo>
                  <a:pt x="588" y="2249"/>
                  <a:pt x="218" y="2238"/>
                  <a:pt x="109" y="2115"/>
                </a:cubicBezTo>
                <a:cubicBezTo>
                  <a:pt x="0" y="1992"/>
                  <a:pt x="92" y="1813"/>
                  <a:pt x="94" y="1508"/>
                </a:cubicBezTo>
                <a:cubicBezTo>
                  <a:pt x="96" y="1203"/>
                  <a:pt x="52" y="561"/>
                  <a:pt x="122" y="283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Object 96" descr=""/>
          <p:cNvPicPr/>
          <p:nvPr/>
        </p:nvPicPr>
        <p:blipFill>
          <a:blip r:embed="rId4"/>
          <a:stretch/>
        </p:blipFill>
        <p:spPr>
          <a:xfrm>
            <a:off x="7313760" y="2244600"/>
            <a:ext cx="738000" cy="633600"/>
          </a:xfrm>
          <a:prstGeom prst="rect">
            <a:avLst/>
          </a:prstGeom>
          <a:ln w="0">
            <a:noFill/>
          </a:ln>
        </p:spPr>
      </p:pic>
      <p:sp>
        <p:nvSpPr>
          <p:cNvPr id="817" name="Line 97"/>
          <p:cNvSpPr/>
          <p:nvPr/>
        </p:nvSpPr>
        <p:spPr>
          <a:xfrm flipV="1">
            <a:off x="7261200" y="2568600"/>
            <a:ext cx="84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Freeform 98"/>
          <p:cNvSpPr/>
          <p:nvPr/>
        </p:nvSpPr>
        <p:spPr>
          <a:xfrm>
            <a:off x="7256520" y="2549520"/>
            <a:ext cx="4680" cy="2570040"/>
          </a:xfrm>
          <a:custGeom>
            <a:avLst/>
            <a:gdLst>
              <a:gd name="textAreaLeft" fmla="*/ 0 w 4680"/>
              <a:gd name="textAreaRight" fmla="*/ 5040 w 4680"/>
              <a:gd name="textAreaTop" fmla="*/ 0 h 2570040"/>
              <a:gd name="textAreaBottom" fmla="*/ 2570400 h 2570040"/>
            </a:gdLst>
            <a:ahLst/>
            <a:rect l="textAreaLeft" t="textAreaTop" r="textAreaRight" b="textAreaBottom"/>
            <a:pathLst>
              <a:path w="3" h="1619">
                <a:moveTo>
                  <a:pt x="0" y="0"/>
                </a:moveTo>
                <a:lnTo>
                  <a:pt x="3" y="161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99"/>
          <p:cNvSpPr/>
          <p:nvPr/>
        </p:nvSpPr>
        <p:spPr>
          <a:xfrm flipV="1">
            <a:off x="6905520" y="284112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0"/>
          <p:cNvSpPr/>
          <p:nvPr/>
        </p:nvSpPr>
        <p:spPr>
          <a:xfrm flipV="1">
            <a:off x="7265880" y="340632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1"/>
          <p:cNvSpPr/>
          <p:nvPr/>
        </p:nvSpPr>
        <p:spPr>
          <a:xfrm flipV="1">
            <a:off x="7845480" y="3406320"/>
            <a:ext cx="3506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2"/>
          <p:cNvSpPr/>
          <p:nvPr/>
        </p:nvSpPr>
        <p:spPr>
          <a:xfrm flipV="1">
            <a:off x="6905520" y="510984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Oval 103"/>
          <p:cNvSpPr/>
          <p:nvPr/>
        </p:nvSpPr>
        <p:spPr>
          <a:xfrm>
            <a:off x="6343560" y="5065560"/>
            <a:ext cx="569880" cy="160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04"/>
          <p:cNvSpPr/>
          <p:nvPr/>
        </p:nvSpPr>
        <p:spPr>
          <a:xfrm>
            <a:off x="6343560" y="5052960"/>
            <a:ext cx="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05"/>
          <p:cNvSpPr/>
          <p:nvPr/>
        </p:nvSpPr>
        <p:spPr>
          <a:xfrm>
            <a:off x="6913440" y="5052960"/>
            <a:ext cx="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06"/>
          <p:cNvSpPr/>
          <p:nvPr/>
        </p:nvSpPr>
        <p:spPr>
          <a:xfrm>
            <a:off x="6343560" y="5052960"/>
            <a:ext cx="565200" cy="96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107"/>
          <p:cNvSpPr/>
          <p:nvPr/>
        </p:nvSpPr>
        <p:spPr>
          <a:xfrm>
            <a:off x="6338880" y="4937040"/>
            <a:ext cx="569880" cy="1875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108"/>
          <p:cNvGrpSpPr/>
          <p:nvPr/>
        </p:nvGrpSpPr>
        <p:grpSpPr>
          <a:xfrm>
            <a:off x="6475320" y="4978440"/>
            <a:ext cx="281880" cy="109440"/>
            <a:chOff x="6475320" y="4978440"/>
            <a:chExt cx="281880" cy="109440"/>
          </a:xfrm>
        </p:grpSpPr>
        <p:sp>
          <p:nvSpPr>
            <p:cNvPr id="829" name="Line 109"/>
            <p:cNvSpPr/>
            <p:nvPr/>
          </p:nvSpPr>
          <p:spPr>
            <a:xfrm flipV="1">
              <a:off x="6475320" y="4978440"/>
              <a:ext cx="10044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110"/>
            <p:cNvSpPr/>
            <p:nvPr/>
          </p:nvSpPr>
          <p:spPr>
            <a:xfrm>
              <a:off x="6668640" y="5087880"/>
              <a:ext cx="8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111"/>
            <p:cNvSpPr/>
            <p:nvPr/>
          </p:nvSpPr>
          <p:spPr>
            <a:xfrm>
              <a:off x="6568200" y="4980600"/>
              <a:ext cx="104760" cy="10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Group 112"/>
          <p:cNvGrpSpPr/>
          <p:nvPr/>
        </p:nvGrpSpPr>
        <p:grpSpPr>
          <a:xfrm>
            <a:off x="6475320" y="4976280"/>
            <a:ext cx="281880" cy="109800"/>
            <a:chOff x="6475320" y="4976280"/>
            <a:chExt cx="281880" cy="109800"/>
          </a:xfrm>
        </p:grpSpPr>
        <p:sp>
          <p:nvSpPr>
            <p:cNvPr id="833" name="Line 113"/>
            <p:cNvSpPr/>
            <p:nvPr/>
          </p:nvSpPr>
          <p:spPr>
            <a:xfrm>
              <a:off x="6475320" y="5083920"/>
              <a:ext cx="10044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4"/>
            <p:cNvSpPr/>
            <p:nvPr/>
          </p:nvSpPr>
          <p:spPr>
            <a:xfrm>
              <a:off x="6668640" y="4976280"/>
              <a:ext cx="8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15"/>
            <p:cNvSpPr/>
            <p:nvPr/>
          </p:nvSpPr>
          <p:spPr>
            <a:xfrm flipV="1">
              <a:off x="6568200" y="4976640"/>
              <a:ext cx="104760" cy="1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Line 116"/>
          <p:cNvSpPr/>
          <p:nvPr/>
        </p:nvSpPr>
        <p:spPr>
          <a:xfrm flipV="1">
            <a:off x="5989680" y="5103360"/>
            <a:ext cx="3506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17"/>
          <p:cNvSpPr/>
          <p:nvPr/>
        </p:nvSpPr>
        <p:spPr>
          <a:xfrm flipV="1">
            <a:off x="7275600" y="4701960"/>
            <a:ext cx="3506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Object 118" descr=""/>
          <p:cNvPicPr/>
          <p:nvPr/>
        </p:nvPicPr>
        <p:blipFill>
          <a:blip r:embed="rId5"/>
          <a:stretch/>
        </p:blipFill>
        <p:spPr>
          <a:xfrm>
            <a:off x="6218280" y="2558880"/>
            <a:ext cx="738000" cy="633600"/>
          </a:xfrm>
          <a:prstGeom prst="rect">
            <a:avLst/>
          </a:prstGeom>
          <a:ln w="0">
            <a:noFill/>
          </a:ln>
        </p:spPr>
      </p:pic>
      <p:grpSp>
        <p:nvGrpSpPr>
          <p:cNvPr id="839" name="Group 119"/>
          <p:cNvGrpSpPr/>
          <p:nvPr/>
        </p:nvGrpSpPr>
        <p:grpSpPr>
          <a:xfrm>
            <a:off x="5029200" y="4448160"/>
            <a:ext cx="1739880" cy="626760"/>
            <a:chOff x="5029200" y="4448160"/>
            <a:chExt cx="1739880" cy="626760"/>
          </a:xfrm>
        </p:grpSpPr>
        <p:sp>
          <p:nvSpPr>
            <p:cNvPr id="840" name="Oval 120"/>
            <p:cNvSpPr/>
            <p:nvPr/>
          </p:nvSpPr>
          <p:spPr>
            <a:xfrm>
              <a:off x="5064120" y="4448160"/>
              <a:ext cx="1704960" cy="626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121"/>
            <p:cNvSpPr/>
            <p:nvPr/>
          </p:nvSpPr>
          <p:spPr>
            <a:xfrm>
              <a:off x="5029200" y="455580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22"/>
            <p:cNvGrpSpPr/>
            <p:nvPr/>
          </p:nvGrpSpPr>
          <p:grpSpPr>
            <a:xfrm>
              <a:off x="5775840" y="4559040"/>
              <a:ext cx="837720" cy="387360"/>
              <a:chOff x="5775840" y="4559040"/>
              <a:chExt cx="837720" cy="387360"/>
            </a:xfrm>
          </p:grpSpPr>
          <p:sp>
            <p:nvSpPr>
              <p:cNvPr id="843" name="Rectangle 123"/>
              <p:cNvSpPr/>
              <p:nvPr/>
            </p:nvSpPr>
            <p:spPr>
              <a:xfrm>
                <a:off x="5902560" y="457488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Text Box 124"/>
              <p:cNvSpPr/>
              <p:nvPr/>
            </p:nvSpPr>
            <p:spPr>
              <a:xfrm>
                <a:off x="5775840" y="455904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5" name="Text Box 125"/>
          <p:cNvSpPr/>
          <p:nvPr/>
        </p:nvSpPr>
        <p:spPr>
          <a:xfrm>
            <a:off x="5426640" y="523224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128"/>
          <p:cNvSpPr/>
          <p:nvPr/>
        </p:nvSpPr>
        <p:spPr>
          <a:xfrm>
            <a:off x="4978440" y="2246400"/>
            <a:ext cx="1941480" cy="59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29"/>
          <p:cNvSpPr/>
          <p:nvPr/>
        </p:nvSpPr>
        <p:spPr>
          <a:xfrm>
            <a:off x="5115600" y="216684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tida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erencia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8" name="Object 130" descr=""/>
          <p:cNvPicPr/>
          <p:nvPr/>
        </p:nvPicPr>
        <p:blipFill>
          <a:blip r:embed="rId6"/>
          <a:stretch/>
        </p:blipFill>
        <p:spPr>
          <a:xfrm>
            <a:off x="7421400" y="4402080"/>
            <a:ext cx="738360" cy="63360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131"/>
          <p:cNvGrpSpPr/>
          <p:nvPr/>
        </p:nvGrpSpPr>
        <p:grpSpPr>
          <a:xfrm>
            <a:off x="7445520" y="3251160"/>
            <a:ext cx="574560" cy="288720"/>
            <a:chOff x="7445520" y="3251160"/>
            <a:chExt cx="574560" cy="288720"/>
          </a:xfrm>
        </p:grpSpPr>
        <p:sp>
          <p:nvSpPr>
            <p:cNvPr id="850" name="Oval 132"/>
            <p:cNvSpPr/>
            <p:nvPr/>
          </p:nvSpPr>
          <p:spPr>
            <a:xfrm>
              <a:off x="7449840" y="3379680"/>
              <a:ext cx="569880" cy="160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133"/>
            <p:cNvSpPr/>
            <p:nvPr/>
          </p:nvSpPr>
          <p:spPr>
            <a:xfrm>
              <a:off x="7449840" y="336708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134"/>
            <p:cNvSpPr/>
            <p:nvPr/>
          </p:nvSpPr>
          <p:spPr>
            <a:xfrm>
              <a:off x="8020080" y="336708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35"/>
            <p:cNvSpPr/>
            <p:nvPr/>
          </p:nvSpPr>
          <p:spPr>
            <a:xfrm>
              <a:off x="7449840" y="3367080"/>
              <a:ext cx="564840" cy="9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136"/>
            <p:cNvSpPr/>
            <p:nvPr/>
          </p:nvSpPr>
          <p:spPr>
            <a:xfrm>
              <a:off x="7445520" y="3251160"/>
              <a:ext cx="569520" cy="187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Group 137"/>
            <p:cNvGrpSpPr/>
            <p:nvPr/>
          </p:nvGrpSpPr>
          <p:grpSpPr>
            <a:xfrm>
              <a:off x="7581600" y="3292200"/>
              <a:ext cx="281880" cy="109800"/>
              <a:chOff x="7581600" y="3292200"/>
              <a:chExt cx="281880" cy="109800"/>
            </a:xfrm>
          </p:grpSpPr>
          <p:sp>
            <p:nvSpPr>
              <p:cNvPr id="856" name="Line 138"/>
              <p:cNvSpPr/>
              <p:nvPr/>
            </p:nvSpPr>
            <p:spPr>
              <a:xfrm flipV="1">
                <a:off x="7581600" y="329220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Line 139"/>
              <p:cNvSpPr/>
              <p:nvPr/>
            </p:nvSpPr>
            <p:spPr>
              <a:xfrm>
                <a:off x="7774920" y="340200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Line 140"/>
              <p:cNvSpPr/>
              <p:nvPr/>
            </p:nvSpPr>
            <p:spPr>
              <a:xfrm>
                <a:off x="7674120" y="3294360"/>
                <a:ext cx="10440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41"/>
            <p:cNvGrpSpPr/>
            <p:nvPr/>
          </p:nvGrpSpPr>
          <p:grpSpPr>
            <a:xfrm>
              <a:off x="7581600" y="3290760"/>
              <a:ext cx="281880" cy="109440"/>
              <a:chOff x="7581600" y="3290760"/>
              <a:chExt cx="281880" cy="109440"/>
            </a:xfrm>
          </p:grpSpPr>
          <p:sp>
            <p:nvSpPr>
              <p:cNvPr id="860" name="Line 142"/>
              <p:cNvSpPr/>
              <p:nvPr/>
            </p:nvSpPr>
            <p:spPr>
              <a:xfrm>
                <a:off x="7581600" y="339804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Line 143"/>
              <p:cNvSpPr/>
              <p:nvPr/>
            </p:nvSpPr>
            <p:spPr>
              <a:xfrm>
                <a:off x="7774920" y="329076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144"/>
              <p:cNvSpPr/>
              <p:nvPr/>
            </p:nvSpPr>
            <p:spPr>
              <a:xfrm flipV="1">
                <a:off x="7674120" y="3291120"/>
                <a:ext cx="10440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3" name="Freeform 145"/>
          <p:cNvSpPr/>
          <p:nvPr/>
        </p:nvSpPr>
        <p:spPr>
          <a:xfrm>
            <a:off x="5784840" y="2870280"/>
            <a:ext cx="74520" cy="1538280"/>
          </a:xfrm>
          <a:custGeom>
            <a:avLst/>
            <a:gdLst>
              <a:gd name="textAreaLeft" fmla="*/ 0 w 74520"/>
              <a:gd name="textAreaRight" fmla="*/ 74880 w 7452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" h="1044">
                <a:moveTo>
                  <a:pt x="0" y="0"/>
                </a:moveTo>
                <a:lnTo>
                  <a:pt x="0" y="1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46"/>
          <p:cNvSpPr/>
          <p:nvPr/>
        </p:nvSpPr>
        <p:spPr>
          <a:xfrm>
            <a:off x="5186520" y="3503520"/>
            <a:ext cx="1693800" cy="387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47"/>
          <p:cNvSpPr/>
          <p:nvPr/>
        </p:nvSpPr>
        <p:spPr>
          <a:xfrm>
            <a:off x="4943520" y="3440160"/>
            <a:ext cx="21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sg de 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Group 148"/>
          <p:cNvGrpSpPr/>
          <p:nvPr/>
        </p:nvGrpSpPr>
        <p:grpSpPr>
          <a:xfrm>
            <a:off x="351000" y="3209760"/>
            <a:ext cx="1454040" cy="401760"/>
            <a:chOff x="351000" y="3209760"/>
            <a:chExt cx="1454040" cy="401760"/>
          </a:xfrm>
        </p:grpSpPr>
        <p:sp>
          <p:nvSpPr>
            <p:cNvPr id="867" name="Rectangle 87"/>
            <p:cNvSpPr/>
            <p:nvPr/>
          </p:nvSpPr>
          <p:spPr>
            <a:xfrm>
              <a:off x="419040" y="3224160"/>
              <a:ext cx="1339920" cy="38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86"/>
            <p:cNvSpPr/>
            <p:nvPr/>
          </p:nvSpPr>
          <p:spPr>
            <a:xfrm>
              <a:off x="351000" y="3209760"/>
              <a:ext cx="14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requisi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Text Box 149"/>
          <p:cNvSpPr/>
          <p:nvPr/>
        </p:nvSpPr>
        <p:spPr>
          <a:xfrm>
            <a:off x="565920" y="57801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odo requisição/re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50"/>
          <p:cNvSpPr/>
          <p:nvPr/>
        </p:nvSpPr>
        <p:spPr>
          <a:xfrm>
            <a:off x="5914800" y="57816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odo 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46120" y="50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SNMP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872" name="Picture 133" descr=""/>
          <p:cNvPicPr/>
          <p:nvPr/>
        </p:nvPicPr>
        <p:blipFill>
          <a:blip r:embed="rId1"/>
          <a:stretch/>
        </p:blipFill>
        <p:spPr>
          <a:xfrm>
            <a:off x="546120" y="2071800"/>
            <a:ext cx="77724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8680" y="520560"/>
            <a:ext cx="824868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e administr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 SNM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8280" y="1630440"/>
            <a:ext cx="7772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riptografia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ES-criptografar mensagem SN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utenticaç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lcular e enviar MIC(m,k): calcular hash (MIC) sobre mensagem (m), chave de segredo compartilhado (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proteção contra reproduç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usar no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trole de acesso baseado em visõ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idade SNMP mantém banco de dados de direitos de acesso, diretrizes para diversos 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óprio banco de dados acessível como objeto gerenciad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9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58360" y="1879560"/>
            <a:ext cx="79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é gerenciamento de re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estrutura de gerenciamento padrão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informações de gerenciamento: SM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se de informações de gerenciamento: MI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perações do protocolo SNMP e mapeamentos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rança e administr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 problema da apresentação: ASN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93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problema da apresen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544680" y="135216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 cópia perfeita de memória a memória resolve o “problema da comunicação”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Nem semp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766800" y="5678640"/>
            <a:ext cx="7772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blem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ferentes formatos de dados e convenções de armaze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821520" y="3164040"/>
            <a:ext cx="161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ar co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 te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.x = 2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.code=‘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Group 12"/>
          <p:cNvGrpSpPr/>
          <p:nvPr/>
        </p:nvGrpSpPr>
        <p:grpSpPr>
          <a:xfrm>
            <a:off x="3892680" y="3236760"/>
            <a:ext cx="1385280" cy="1409400"/>
            <a:chOff x="3892680" y="3236760"/>
            <a:chExt cx="1385280" cy="1409400"/>
          </a:xfrm>
        </p:grpSpPr>
        <p:sp>
          <p:nvSpPr>
            <p:cNvPr id="882" name="Rectangle 7"/>
            <p:cNvSpPr/>
            <p:nvPr/>
          </p:nvSpPr>
          <p:spPr>
            <a:xfrm>
              <a:off x="3892680" y="3236760"/>
              <a:ext cx="1371240" cy="1409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6"/>
            <p:cNvSpPr/>
            <p:nvPr/>
          </p:nvSpPr>
          <p:spPr>
            <a:xfrm>
              <a:off x="3934800" y="3278160"/>
              <a:ext cx="131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0000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0000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9"/>
            <p:cNvSpPr/>
            <p:nvPr/>
          </p:nvSpPr>
          <p:spPr>
            <a:xfrm>
              <a:off x="3897000" y="3606840"/>
              <a:ext cx="1376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10"/>
            <p:cNvSpPr/>
            <p:nvPr/>
          </p:nvSpPr>
          <p:spPr>
            <a:xfrm>
              <a:off x="3897000" y="3948480"/>
              <a:ext cx="13762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3902040" y="4295160"/>
              <a:ext cx="1375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Group 19"/>
          <p:cNvGrpSpPr/>
          <p:nvPr/>
        </p:nvGrpSpPr>
        <p:grpSpPr>
          <a:xfrm>
            <a:off x="7064280" y="3222720"/>
            <a:ext cx="1381320" cy="1395360"/>
            <a:chOff x="7064280" y="3222720"/>
            <a:chExt cx="1381320" cy="1395360"/>
          </a:xfrm>
        </p:grpSpPr>
        <p:sp>
          <p:nvSpPr>
            <p:cNvPr id="888" name="Rectangle 14"/>
            <p:cNvSpPr/>
            <p:nvPr/>
          </p:nvSpPr>
          <p:spPr>
            <a:xfrm>
              <a:off x="7064280" y="3222720"/>
              <a:ext cx="1371600" cy="1395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7107120" y="3264120"/>
              <a:ext cx="1314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00000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0000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6"/>
            <p:cNvSpPr/>
            <p:nvPr/>
          </p:nvSpPr>
          <p:spPr>
            <a:xfrm>
              <a:off x="7069320" y="3589560"/>
              <a:ext cx="1376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7"/>
            <p:cNvSpPr/>
            <p:nvPr/>
          </p:nvSpPr>
          <p:spPr>
            <a:xfrm>
              <a:off x="7069320" y="3927600"/>
              <a:ext cx="13762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8"/>
            <p:cNvSpPr/>
            <p:nvPr/>
          </p:nvSpPr>
          <p:spPr>
            <a:xfrm>
              <a:off x="7064280" y="4241880"/>
              <a:ext cx="13766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Text Box 20"/>
          <p:cNvSpPr/>
          <p:nvPr/>
        </p:nvSpPr>
        <p:spPr>
          <a:xfrm>
            <a:off x="2644560" y="325764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1"/>
          <p:cNvSpPr/>
          <p:nvPr/>
        </p:nvSpPr>
        <p:spPr>
          <a:xfrm>
            <a:off x="5760720" y="3257640"/>
            <a:ext cx="121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.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22"/>
          <p:cNvSpPr/>
          <p:nvPr/>
        </p:nvSpPr>
        <p:spPr>
          <a:xfrm>
            <a:off x="2941920" y="484020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ormato do hosp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23"/>
          <p:cNvSpPr/>
          <p:nvPr/>
        </p:nvSpPr>
        <p:spPr>
          <a:xfrm>
            <a:off x="6035760" y="4803840"/>
            <a:ext cx="24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ormato do hosp.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9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Gerenciamento de red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6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rodução ao gerenciament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tiv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ipais compon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rutura de gerenciamento de rede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IB: base de informações de gerenci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MI: linguagem de definição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NMP: protocolo para gerenciament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urança e administr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s de apresentação: ASN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31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 problem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presentação da vida real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898" name="Picture 9" descr=""/>
          <p:cNvPicPr/>
          <p:nvPr/>
        </p:nvPicPr>
        <p:blipFill>
          <a:blip r:embed="rId1"/>
          <a:stretch/>
        </p:blipFill>
        <p:spPr>
          <a:xfrm>
            <a:off x="1432080" y="2141640"/>
            <a:ext cx="6130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7960" y="291600"/>
            <a:ext cx="829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blema da apresentaç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luções em potenci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84120" y="1996920"/>
            <a:ext cx="79646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metente aprende formato do destinatário. Remetente traduz para formato do destinatário. Remetente envi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nalogia do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rós e contras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metente envia. Destinatário aprende formato do remetente. Destinatário traduz para formato local do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nalogia do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rós e contr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metente traduz formato independente do hospedeiro. Envia. Destinatário traduz para formato local do destinatár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nalogia do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rós e contr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olvendo o proble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apresen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duzir formato do hospedeiro local para formato independente do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nsmitir dados no formato independente do hos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duzir formato independente do hospedeiro para formato do hospedeiro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3" name="Picture 8" descr=""/>
          <p:cNvPicPr/>
          <p:nvPr/>
        </p:nvPicPr>
        <p:blipFill>
          <a:blip r:embed="rId1"/>
          <a:stretch/>
        </p:blipFill>
        <p:spPr>
          <a:xfrm>
            <a:off x="1414440" y="3693960"/>
            <a:ext cx="62276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4612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N.1: Abstract Syntax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otation 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44240" y="1684080"/>
            <a:ext cx="8148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Padrão IS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.6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stante usado n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comer vegetais, isso é “bom para você”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ipos de dados definid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construtores de objet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S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BER: Basic Encoding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r como objetos de dados definidos por ASN.1 serão transmit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objeto transmitido tem codificação Tipo, Tamanho, Valor (TLV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 TLV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160" y="1434960"/>
            <a:ext cx="823572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Ideia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ados transmitidos são autoidentificá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ipo de dado, um dos tipos definidos do ASN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amanho dos dados em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V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alor dos dados, codificados de acordo com padrão ASN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5"/>
          <p:cNvSpPr/>
          <p:nvPr/>
        </p:nvSpPr>
        <p:spPr>
          <a:xfrm>
            <a:off x="3895560" y="4091040"/>
            <a:ext cx="32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4458600" y="4043520"/>
            <a:ext cx="196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t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te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ct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5"/>
          <p:cNvSpPr/>
          <p:nvPr/>
        </p:nvSpPr>
        <p:spPr>
          <a:xfrm>
            <a:off x="2279160" y="35640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Valor de Tag</a:t>
            </a: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     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6"/>
          <p:cNvSpPr/>
          <p:nvPr/>
        </p:nvSpPr>
        <p:spPr>
          <a:xfrm flipV="1">
            <a:off x="4373640" y="3951000"/>
            <a:ext cx="0" cy="23288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19" descr=""/>
          <p:cNvPicPr/>
          <p:nvPr/>
        </p:nvPicPr>
        <p:blipFill>
          <a:blip r:embed="rId1"/>
          <a:stretch/>
        </p:blipFill>
        <p:spPr>
          <a:xfrm>
            <a:off x="2986200" y="1484280"/>
            <a:ext cx="4486320" cy="483732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 TLV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626040" y="5430960"/>
            <a:ext cx="31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r, 5 octetos (ch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gth, 5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po = 4, string de oct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770840" y="3341520"/>
            <a:ext cx="200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r, 2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gth, 2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po=2, int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3786120" y="6184800"/>
            <a:ext cx="1258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8"/>
          <p:cNvSpPr/>
          <p:nvPr/>
        </p:nvSpPr>
        <p:spPr>
          <a:xfrm>
            <a:off x="3753000" y="5938920"/>
            <a:ext cx="12938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9"/>
          <p:cNvSpPr/>
          <p:nvPr/>
        </p:nvSpPr>
        <p:spPr>
          <a:xfrm flipV="1">
            <a:off x="4199040" y="4462560"/>
            <a:ext cx="842760" cy="1203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10"/>
          <p:cNvSpPr/>
          <p:nvPr/>
        </p:nvSpPr>
        <p:spPr>
          <a:xfrm>
            <a:off x="4154400" y="5656320"/>
            <a:ext cx="8938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1"/>
          <p:cNvSpPr/>
          <p:nvPr/>
        </p:nvSpPr>
        <p:spPr>
          <a:xfrm>
            <a:off x="3798720" y="5653080"/>
            <a:ext cx="481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"/>
          <p:cNvSpPr/>
          <p:nvPr/>
        </p:nvSpPr>
        <p:spPr>
          <a:xfrm>
            <a:off x="3800520" y="4194000"/>
            <a:ext cx="1270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3786120" y="3871800"/>
            <a:ext cx="1281240" cy="11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14"/>
          <p:cNvSpPr/>
          <p:nvPr/>
        </p:nvSpPr>
        <p:spPr>
          <a:xfrm flipV="1">
            <a:off x="4170240" y="3378240"/>
            <a:ext cx="873360" cy="23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15"/>
          <p:cNvSpPr/>
          <p:nvPr/>
        </p:nvSpPr>
        <p:spPr>
          <a:xfrm flipV="1">
            <a:off x="4202280" y="3603240"/>
            <a:ext cx="823680" cy="11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16"/>
          <p:cNvSpPr/>
          <p:nvPr/>
        </p:nvSpPr>
        <p:spPr>
          <a:xfrm>
            <a:off x="3795840" y="3624120"/>
            <a:ext cx="480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8428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enciamento de re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17160" y="1841400"/>
            <a:ext cx="8318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renciament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tremamente importante: 80% do “custo”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N.1 para descriptação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SNMP como ferramenta para transportar inform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renciamento de rede: mais arte do que ci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medir/monitor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responder a falha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rrelação/filtragem de alar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9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 que é gerenciamento de re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estrutura de gerenciamento padrão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informações de gerenciamento: SM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se de informações de gerenciamento: MI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perações do protocolo SNMP e mapeamentos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rança e administr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N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1640" y="40608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gerenci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914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istemas autônomos (ou “rede”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entenas ou milhares de componentes de hardware/software interagi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sistemas complexos exigindo monitoração e contro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vião a j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ina nucl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509840" y="4379760"/>
            <a:ext cx="7489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Gerenciamento de re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clui a implantação, integração e coordenação do hardware, software e elementos humanos para monitorar, testar, contar, configurar, analisar, avaliar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ar a rede e os recursos para atender os requisitos de tempo real, desempenho operacional e Qualidade de Serviço a um custo razoável."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1479600" y="4311720"/>
            <a:ext cx="7496280" cy="1990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Object 8" descr=""/>
          <p:cNvPicPr/>
          <p:nvPr/>
        </p:nvPicPr>
        <p:blipFill>
          <a:blip r:embed="rId1"/>
          <a:stretch/>
        </p:blipFill>
        <p:spPr>
          <a:xfrm>
            <a:off x="343080" y="4543560"/>
            <a:ext cx="112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Espaço Reservado para Rodapé 5"/>
          <p:cNvSpPr/>
          <p:nvPr/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0304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fraestrutura pa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enciamento 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Freeform 7"/>
          <p:cNvSpPr/>
          <p:nvPr/>
        </p:nvSpPr>
        <p:spPr>
          <a:xfrm>
            <a:off x="2147760" y="2139840"/>
            <a:ext cx="2683080" cy="4168800"/>
          </a:xfrm>
          <a:custGeom>
            <a:avLst/>
            <a:gdLst>
              <a:gd name="textAreaLeft" fmla="*/ 0 w 2683080"/>
              <a:gd name="textAreaRight" fmla="*/ 2683440 w 2683080"/>
              <a:gd name="textAreaTop" fmla="*/ 0 h 4168800"/>
              <a:gd name="textAreaBottom" fmla="*/ 4169160 h 4168800"/>
            </a:gdLst>
            <a:ahLst/>
            <a:rect l="textAreaLeft" t="textAreaTop" r="textAreaRight" b="textAreaBottom"/>
            <a:pathLst>
              <a:path w="1476" h="2122">
                <a:moveTo>
                  <a:pt x="61" y="516"/>
                </a:moveTo>
                <a:cubicBezTo>
                  <a:pt x="122" y="291"/>
                  <a:pt x="304" y="237"/>
                  <a:pt x="403" y="156"/>
                </a:cubicBezTo>
                <a:cubicBezTo>
                  <a:pt x="502" y="75"/>
                  <a:pt x="553" y="46"/>
                  <a:pt x="655" y="30"/>
                </a:cubicBezTo>
                <a:cubicBezTo>
                  <a:pt x="757" y="14"/>
                  <a:pt x="890" y="0"/>
                  <a:pt x="1015" y="60"/>
                </a:cubicBezTo>
                <a:cubicBezTo>
                  <a:pt x="1140" y="120"/>
                  <a:pt x="1334" y="251"/>
                  <a:pt x="1405" y="390"/>
                </a:cubicBezTo>
                <a:cubicBezTo>
                  <a:pt x="1476" y="529"/>
                  <a:pt x="1437" y="728"/>
                  <a:pt x="1441" y="894"/>
                </a:cubicBezTo>
                <a:cubicBezTo>
                  <a:pt x="1445" y="1060"/>
                  <a:pt x="1440" y="1242"/>
                  <a:pt x="1429" y="1386"/>
                </a:cubicBezTo>
                <a:cubicBezTo>
                  <a:pt x="1418" y="1530"/>
                  <a:pt x="1422" y="1668"/>
                  <a:pt x="1375" y="1758"/>
                </a:cubicBezTo>
                <a:cubicBezTo>
                  <a:pt x="1328" y="1848"/>
                  <a:pt x="1252" y="1880"/>
                  <a:pt x="1147" y="1926"/>
                </a:cubicBezTo>
                <a:cubicBezTo>
                  <a:pt x="1042" y="1972"/>
                  <a:pt x="907" y="2016"/>
                  <a:pt x="745" y="2034"/>
                </a:cubicBezTo>
                <a:cubicBezTo>
                  <a:pt x="583" y="2052"/>
                  <a:pt x="293" y="2122"/>
                  <a:pt x="175" y="2034"/>
                </a:cubicBezTo>
                <a:cubicBezTo>
                  <a:pt x="57" y="1946"/>
                  <a:pt x="56" y="1759"/>
                  <a:pt x="37" y="1506"/>
                </a:cubicBezTo>
                <a:cubicBezTo>
                  <a:pt x="18" y="1253"/>
                  <a:pt x="0" y="741"/>
                  <a:pt x="61" y="516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Object 49" descr=""/>
          <p:cNvPicPr/>
          <p:nvPr/>
        </p:nvPicPr>
        <p:blipFill>
          <a:blip r:embed="rId1"/>
          <a:stretch/>
        </p:blipFill>
        <p:spPr>
          <a:xfrm>
            <a:off x="3387600" y="2489040"/>
            <a:ext cx="738360" cy="633600"/>
          </a:xfrm>
          <a:prstGeom prst="rect">
            <a:avLst/>
          </a:prstGeom>
          <a:ln w="0">
            <a:noFill/>
          </a:ln>
        </p:spPr>
      </p:pic>
      <p:sp>
        <p:nvSpPr>
          <p:cNvPr id="621" name="Line 50"/>
          <p:cNvSpPr/>
          <p:nvPr/>
        </p:nvSpPr>
        <p:spPr>
          <a:xfrm flipV="1">
            <a:off x="3359160" y="2989440"/>
            <a:ext cx="84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57"/>
          <p:cNvSpPr/>
          <p:nvPr/>
        </p:nvSpPr>
        <p:spPr>
          <a:xfrm>
            <a:off x="3370320" y="3005280"/>
            <a:ext cx="0" cy="28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210"/>
          <p:cNvGrpSpPr/>
          <p:nvPr/>
        </p:nvGrpSpPr>
        <p:grpSpPr>
          <a:xfrm>
            <a:off x="3719520" y="3989520"/>
            <a:ext cx="574200" cy="288360"/>
            <a:chOff x="3719520" y="3989520"/>
            <a:chExt cx="574200" cy="288360"/>
          </a:xfrm>
        </p:grpSpPr>
        <p:sp>
          <p:nvSpPr>
            <p:cNvPr id="624" name="Oval 211"/>
            <p:cNvSpPr/>
            <p:nvPr/>
          </p:nvSpPr>
          <p:spPr>
            <a:xfrm>
              <a:off x="3724200" y="4118040"/>
              <a:ext cx="569520" cy="159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12"/>
            <p:cNvSpPr/>
            <p:nvPr/>
          </p:nvSpPr>
          <p:spPr>
            <a:xfrm>
              <a:off x="3724200" y="410472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13"/>
            <p:cNvSpPr/>
            <p:nvPr/>
          </p:nvSpPr>
          <p:spPr>
            <a:xfrm>
              <a:off x="4293720" y="410472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214"/>
            <p:cNvSpPr/>
            <p:nvPr/>
          </p:nvSpPr>
          <p:spPr>
            <a:xfrm>
              <a:off x="3724200" y="4104720"/>
              <a:ext cx="564480" cy="9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215"/>
            <p:cNvSpPr/>
            <p:nvPr/>
          </p:nvSpPr>
          <p:spPr>
            <a:xfrm>
              <a:off x="3719520" y="3989520"/>
              <a:ext cx="569160" cy="186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Group 216"/>
            <p:cNvGrpSpPr/>
            <p:nvPr/>
          </p:nvGrpSpPr>
          <p:grpSpPr>
            <a:xfrm>
              <a:off x="3856320" y="4030560"/>
              <a:ext cx="281880" cy="108720"/>
              <a:chOff x="3856320" y="4030560"/>
              <a:chExt cx="281880" cy="108720"/>
            </a:xfrm>
          </p:grpSpPr>
          <p:sp>
            <p:nvSpPr>
              <p:cNvPr id="630" name="Line 217"/>
              <p:cNvSpPr/>
              <p:nvPr/>
            </p:nvSpPr>
            <p:spPr>
              <a:xfrm flipV="1">
                <a:off x="3856320" y="403056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218"/>
              <p:cNvSpPr/>
              <p:nvPr/>
            </p:nvSpPr>
            <p:spPr>
              <a:xfrm>
                <a:off x="4049640" y="413928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219"/>
              <p:cNvSpPr/>
              <p:nvPr/>
            </p:nvSpPr>
            <p:spPr>
              <a:xfrm>
                <a:off x="3948840" y="4032720"/>
                <a:ext cx="104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220"/>
            <p:cNvGrpSpPr/>
            <p:nvPr/>
          </p:nvGrpSpPr>
          <p:grpSpPr>
            <a:xfrm>
              <a:off x="3856320" y="4029120"/>
              <a:ext cx="281880" cy="108720"/>
              <a:chOff x="3856320" y="4029120"/>
              <a:chExt cx="281880" cy="108720"/>
            </a:xfrm>
          </p:grpSpPr>
          <p:sp>
            <p:nvSpPr>
              <p:cNvPr id="634" name="Line 221"/>
              <p:cNvSpPr/>
              <p:nvPr/>
            </p:nvSpPr>
            <p:spPr>
              <a:xfrm>
                <a:off x="3856320" y="413568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222"/>
              <p:cNvSpPr/>
              <p:nvPr/>
            </p:nvSpPr>
            <p:spPr>
              <a:xfrm>
                <a:off x="4049640" y="402912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223"/>
              <p:cNvSpPr/>
              <p:nvPr/>
            </p:nvSpPr>
            <p:spPr>
              <a:xfrm flipV="1">
                <a:off x="3948840" y="4029120"/>
                <a:ext cx="10440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Line 252"/>
          <p:cNvSpPr/>
          <p:nvPr/>
        </p:nvSpPr>
        <p:spPr>
          <a:xfrm flipV="1">
            <a:off x="3016080" y="357948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Object 253" descr=""/>
          <p:cNvPicPr/>
          <p:nvPr/>
        </p:nvPicPr>
        <p:blipFill>
          <a:blip r:embed="rId2"/>
          <a:stretch/>
        </p:blipFill>
        <p:spPr>
          <a:xfrm>
            <a:off x="3684600" y="4964040"/>
            <a:ext cx="738000" cy="633600"/>
          </a:xfrm>
          <a:prstGeom prst="rect">
            <a:avLst/>
          </a:prstGeom>
          <a:ln w="0">
            <a:noFill/>
          </a:ln>
        </p:spPr>
      </p:pic>
      <p:sp>
        <p:nvSpPr>
          <p:cNvPr id="639" name="Line 254"/>
          <p:cNvSpPr/>
          <p:nvPr/>
        </p:nvSpPr>
        <p:spPr>
          <a:xfrm flipV="1">
            <a:off x="3376440" y="414468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55"/>
          <p:cNvSpPr/>
          <p:nvPr/>
        </p:nvSpPr>
        <p:spPr>
          <a:xfrm flipV="1">
            <a:off x="4308480" y="414468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6"/>
          <p:cNvSpPr/>
          <p:nvPr/>
        </p:nvSpPr>
        <p:spPr>
          <a:xfrm flipV="1">
            <a:off x="3016080" y="5847840"/>
            <a:ext cx="35100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Group 257"/>
          <p:cNvGrpSpPr/>
          <p:nvPr/>
        </p:nvGrpSpPr>
        <p:grpSpPr>
          <a:xfrm>
            <a:off x="2449440" y="5675400"/>
            <a:ext cx="574560" cy="288360"/>
            <a:chOff x="2449440" y="5675400"/>
            <a:chExt cx="574560" cy="288360"/>
          </a:xfrm>
        </p:grpSpPr>
        <p:sp>
          <p:nvSpPr>
            <p:cNvPr id="643" name="Oval 258"/>
            <p:cNvSpPr/>
            <p:nvPr/>
          </p:nvSpPr>
          <p:spPr>
            <a:xfrm>
              <a:off x="2454120" y="5803920"/>
              <a:ext cx="569880" cy="159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59"/>
            <p:cNvSpPr/>
            <p:nvPr/>
          </p:nvSpPr>
          <p:spPr>
            <a:xfrm>
              <a:off x="2454120" y="579060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60"/>
            <p:cNvSpPr/>
            <p:nvPr/>
          </p:nvSpPr>
          <p:spPr>
            <a:xfrm>
              <a:off x="3024000" y="5790600"/>
              <a:ext cx="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261"/>
            <p:cNvSpPr/>
            <p:nvPr/>
          </p:nvSpPr>
          <p:spPr>
            <a:xfrm>
              <a:off x="2454120" y="5790600"/>
              <a:ext cx="564840" cy="97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262"/>
            <p:cNvSpPr/>
            <p:nvPr/>
          </p:nvSpPr>
          <p:spPr>
            <a:xfrm>
              <a:off x="2449440" y="5675400"/>
              <a:ext cx="569520" cy="186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263"/>
            <p:cNvGrpSpPr/>
            <p:nvPr/>
          </p:nvGrpSpPr>
          <p:grpSpPr>
            <a:xfrm>
              <a:off x="2586600" y="5716440"/>
              <a:ext cx="281880" cy="108720"/>
              <a:chOff x="2586600" y="5716440"/>
              <a:chExt cx="281880" cy="108720"/>
            </a:xfrm>
          </p:grpSpPr>
          <p:sp>
            <p:nvSpPr>
              <p:cNvPr id="649" name="Line 264"/>
              <p:cNvSpPr/>
              <p:nvPr/>
            </p:nvSpPr>
            <p:spPr>
              <a:xfrm flipV="1">
                <a:off x="2586600" y="571644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265"/>
              <p:cNvSpPr/>
              <p:nvPr/>
            </p:nvSpPr>
            <p:spPr>
              <a:xfrm>
                <a:off x="2779920" y="582516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266"/>
              <p:cNvSpPr/>
              <p:nvPr/>
            </p:nvSpPr>
            <p:spPr>
              <a:xfrm>
                <a:off x="2679480" y="5718600"/>
                <a:ext cx="10476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67"/>
            <p:cNvGrpSpPr/>
            <p:nvPr/>
          </p:nvGrpSpPr>
          <p:grpSpPr>
            <a:xfrm>
              <a:off x="2586600" y="5715000"/>
              <a:ext cx="281880" cy="108720"/>
              <a:chOff x="2586600" y="5715000"/>
              <a:chExt cx="281880" cy="108720"/>
            </a:xfrm>
          </p:grpSpPr>
          <p:sp>
            <p:nvSpPr>
              <p:cNvPr id="653" name="Line 268"/>
              <p:cNvSpPr/>
              <p:nvPr/>
            </p:nvSpPr>
            <p:spPr>
              <a:xfrm>
                <a:off x="2586600" y="5821560"/>
                <a:ext cx="100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269"/>
              <p:cNvSpPr/>
              <p:nvPr/>
            </p:nvSpPr>
            <p:spPr>
              <a:xfrm>
                <a:off x="2779920" y="5715000"/>
                <a:ext cx="8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270"/>
              <p:cNvSpPr/>
              <p:nvPr/>
            </p:nvSpPr>
            <p:spPr>
              <a:xfrm flipV="1">
                <a:off x="2679480" y="5715000"/>
                <a:ext cx="10476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6" name="Line 271"/>
          <p:cNvSpPr/>
          <p:nvPr/>
        </p:nvSpPr>
        <p:spPr>
          <a:xfrm flipV="1">
            <a:off x="2100240" y="5841720"/>
            <a:ext cx="35100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272"/>
          <p:cNvSpPr/>
          <p:nvPr/>
        </p:nvSpPr>
        <p:spPr>
          <a:xfrm flipV="1">
            <a:off x="3386160" y="5439960"/>
            <a:ext cx="3506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Object 273" descr=""/>
          <p:cNvPicPr/>
          <p:nvPr/>
        </p:nvPicPr>
        <p:blipFill>
          <a:blip r:embed="rId3"/>
          <a:stretch/>
        </p:blipFill>
        <p:spPr>
          <a:xfrm>
            <a:off x="2305080" y="3121200"/>
            <a:ext cx="738000" cy="633240"/>
          </a:xfrm>
          <a:prstGeom prst="rect">
            <a:avLst/>
          </a:prstGeom>
          <a:ln w="0">
            <a:noFill/>
          </a:ln>
        </p:spPr>
      </p:pic>
      <p:grpSp>
        <p:nvGrpSpPr>
          <p:cNvPr id="659" name="Group 313"/>
          <p:cNvGrpSpPr/>
          <p:nvPr/>
        </p:nvGrpSpPr>
        <p:grpSpPr>
          <a:xfrm>
            <a:off x="3984840" y="4702320"/>
            <a:ext cx="1752480" cy="685800"/>
            <a:chOff x="3984840" y="4702320"/>
            <a:chExt cx="1752480" cy="685800"/>
          </a:xfrm>
        </p:grpSpPr>
        <p:sp>
          <p:nvSpPr>
            <p:cNvPr id="660" name="Oval 306"/>
            <p:cNvSpPr/>
            <p:nvPr/>
          </p:nvSpPr>
          <p:spPr>
            <a:xfrm>
              <a:off x="4032360" y="4702320"/>
              <a:ext cx="1704960" cy="685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302"/>
            <p:cNvSpPr/>
            <p:nvPr/>
          </p:nvSpPr>
          <p:spPr>
            <a:xfrm>
              <a:off x="3984840" y="485784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Group 303"/>
            <p:cNvGrpSpPr/>
            <p:nvPr/>
          </p:nvGrpSpPr>
          <p:grpSpPr>
            <a:xfrm>
              <a:off x="4742280" y="4838760"/>
              <a:ext cx="837720" cy="387360"/>
              <a:chOff x="4742280" y="4838760"/>
              <a:chExt cx="837720" cy="387360"/>
            </a:xfrm>
          </p:grpSpPr>
          <p:sp>
            <p:nvSpPr>
              <p:cNvPr id="663" name="Rectangle 304"/>
              <p:cNvSpPr/>
              <p:nvPr/>
            </p:nvSpPr>
            <p:spPr>
              <a:xfrm>
                <a:off x="4870800" y="485460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Text Box 305"/>
              <p:cNvSpPr/>
              <p:nvPr/>
            </p:nvSpPr>
            <p:spPr>
              <a:xfrm>
                <a:off x="4742280" y="483876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5" name="Group 314"/>
          <p:cNvGrpSpPr/>
          <p:nvPr/>
        </p:nvGrpSpPr>
        <p:grpSpPr>
          <a:xfrm>
            <a:off x="3946680" y="3473280"/>
            <a:ext cx="1752480" cy="685800"/>
            <a:chOff x="3946680" y="3473280"/>
            <a:chExt cx="1752480" cy="685800"/>
          </a:xfrm>
        </p:grpSpPr>
        <p:sp>
          <p:nvSpPr>
            <p:cNvPr id="666" name="Oval 315"/>
            <p:cNvSpPr/>
            <p:nvPr/>
          </p:nvSpPr>
          <p:spPr>
            <a:xfrm>
              <a:off x="3994200" y="3473280"/>
              <a:ext cx="1704960" cy="685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316"/>
            <p:cNvSpPr/>
            <p:nvPr/>
          </p:nvSpPr>
          <p:spPr>
            <a:xfrm>
              <a:off x="3946680" y="362880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Group 317"/>
            <p:cNvGrpSpPr/>
            <p:nvPr/>
          </p:nvGrpSpPr>
          <p:grpSpPr>
            <a:xfrm>
              <a:off x="4704120" y="3609720"/>
              <a:ext cx="837720" cy="387360"/>
              <a:chOff x="4704120" y="3609720"/>
              <a:chExt cx="837720" cy="387360"/>
            </a:xfrm>
          </p:grpSpPr>
          <p:sp>
            <p:nvSpPr>
              <p:cNvPr id="669" name="Rectangle 318"/>
              <p:cNvSpPr/>
              <p:nvPr/>
            </p:nvSpPr>
            <p:spPr>
              <a:xfrm>
                <a:off x="4832640" y="362556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Text Box 319"/>
              <p:cNvSpPr/>
              <p:nvPr/>
            </p:nvSpPr>
            <p:spPr>
              <a:xfrm>
                <a:off x="4704120" y="360972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" name="Group 320"/>
          <p:cNvGrpSpPr/>
          <p:nvPr/>
        </p:nvGrpSpPr>
        <p:grpSpPr>
          <a:xfrm>
            <a:off x="3936960" y="2273400"/>
            <a:ext cx="1752480" cy="685800"/>
            <a:chOff x="3936960" y="2273400"/>
            <a:chExt cx="1752480" cy="685800"/>
          </a:xfrm>
        </p:grpSpPr>
        <p:sp>
          <p:nvSpPr>
            <p:cNvPr id="672" name="Oval 321"/>
            <p:cNvSpPr/>
            <p:nvPr/>
          </p:nvSpPr>
          <p:spPr>
            <a:xfrm>
              <a:off x="3984480" y="2273400"/>
              <a:ext cx="1704960" cy="685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22"/>
            <p:cNvSpPr/>
            <p:nvPr/>
          </p:nvSpPr>
          <p:spPr>
            <a:xfrm>
              <a:off x="3936960" y="242892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323"/>
            <p:cNvGrpSpPr/>
            <p:nvPr/>
          </p:nvGrpSpPr>
          <p:grpSpPr>
            <a:xfrm>
              <a:off x="4694400" y="2409840"/>
              <a:ext cx="837720" cy="387360"/>
              <a:chOff x="4694400" y="2409840"/>
              <a:chExt cx="837720" cy="387360"/>
            </a:xfrm>
          </p:grpSpPr>
          <p:sp>
            <p:nvSpPr>
              <p:cNvPr id="675" name="Rectangle 324"/>
              <p:cNvSpPr/>
              <p:nvPr/>
            </p:nvSpPr>
            <p:spPr>
              <a:xfrm>
                <a:off x="4822920" y="2425680"/>
                <a:ext cx="59040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325"/>
              <p:cNvSpPr/>
              <p:nvPr/>
            </p:nvSpPr>
            <p:spPr>
              <a:xfrm>
                <a:off x="4694400" y="240984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Group 326"/>
          <p:cNvGrpSpPr/>
          <p:nvPr/>
        </p:nvGrpSpPr>
        <p:grpSpPr>
          <a:xfrm>
            <a:off x="1098720" y="5121360"/>
            <a:ext cx="1752480" cy="685800"/>
            <a:chOff x="1098720" y="5121360"/>
            <a:chExt cx="1752480" cy="685800"/>
          </a:xfrm>
        </p:grpSpPr>
        <p:sp>
          <p:nvSpPr>
            <p:cNvPr id="678" name="Oval 327"/>
            <p:cNvSpPr/>
            <p:nvPr/>
          </p:nvSpPr>
          <p:spPr>
            <a:xfrm>
              <a:off x="1146240" y="5121360"/>
              <a:ext cx="1704960" cy="685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328"/>
            <p:cNvSpPr/>
            <p:nvPr/>
          </p:nvSpPr>
          <p:spPr>
            <a:xfrm>
              <a:off x="1098720" y="527688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329"/>
            <p:cNvGrpSpPr/>
            <p:nvPr/>
          </p:nvGrpSpPr>
          <p:grpSpPr>
            <a:xfrm>
              <a:off x="1857600" y="5257800"/>
              <a:ext cx="837720" cy="387360"/>
              <a:chOff x="1857600" y="5257800"/>
              <a:chExt cx="837720" cy="387360"/>
            </a:xfrm>
          </p:grpSpPr>
          <p:sp>
            <p:nvSpPr>
              <p:cNvPr id="681" name="Rectangle 330"/>
              <p:cNvSpPr/>
              <p:nvPr/>
            </p:nvSpPr>
            <p:spPr>
              <a:xfrm>
                <a:off x="1984320" y="5273640"/>
                <a:ext cx="590040" cy="371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Text Box 331"/>
              <p:cNvSpPr/>
              <p:nvPr/>
            </p:nvSpPr>
            <p:spPr>
              <a:xfrm>
                <a:off x="1857600" y="525780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" name="Text Box 333"/>
          <p:cNvSpPr/>
          <p:nvPr/>
        </p:nvSpPr>
        <p:spPr>
          <a:xfrm>
            <a:off x="1550160" y="597204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38"/>
          <p:cNvSpPr/>
          <p:nvPr/>
        </p:nvSpPr>
        <p:spPr>
          <a:xfrm>
            <a:off x="4267800" y="517536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39"/>
          <p:cNvSpPr/>
          <p:nvPr/>
        </p:nvSpPr>
        <p:spPr>
          <a:xfrm>
            <a:off x="3509280" y="304164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40"/>
          <p:cNvSpPr/>
          <p:nvPr/>
        </p:nvSpPr>
        <p:spPr>
          <a:xfrm>
            <a:off x="3569400" y="424800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 g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341"/>
          <p:cNvSpPr/>
          <p:nvPr/>
        </p:nvSpPr>
        <p:spPr>
          <a:xfrm flipV="1">
            <a:off x="2308320" y="2644920"/>
            <a:ext cx="1666800" cy="266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342"/>
          <p:cNvSpPr/>
          <p:nvPr/>
        </p:nvSpPr>
        <p:spPr>
          <a:xfrm>
            <a:off x="2327400" y="3168720"/>
            <a:ext cx="1666800" cy="638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43"/>
          <p:cNvSpPr/>
          <p:nvPr/>
        </p:nvSpPr>
        <p:spPr>
          <a:xfrm>
            <a:off x="2108160" y="3340080"/>
            <a:ext cx="1886040" cy="16574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344"/>
          <p:cNvSpPr/>
          <p:nvPr/>
        </p:nvSpPr>
        <p:spPr>
          <a:xfrm>
            <a:off x="1889280" y="3425760"/>
            <a:ext cx="314280" cy="1695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280"/>
          <p:cNvSpPr/>
          <p:nvPr/>
        </p:nvSpPr>
        <p:spPr>
          <a:xfrm>
            <a:off x="255600" y="2701800"/>
            <a:ext cx="2119320" cy="771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76"/>
          <p:cNvSpPr/>
          <p:nvPr/>
        </p:nvSpPr>
        <p:spPr>
          <a:xfrm>
            <a:off x="183240" y="210348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tida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erencia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77"/>
          <p:cNvSpPr/>
          <p:nvPr/>
        </p:nvSpPr>
        <p:spPr>
          <a:xfrm>
            <a:off x="1419480" y="2933640"/>
            <a:ext cx="8377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46"/>
          <p:cNvSpPr/>
          <p:nvPr/>
        </p:nvSpPr>
        <p:spPr>
          <a:xfrm>
            <a:off x="280440" y="3819600"/>
            <a:ext cx="170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protocol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gerenc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de r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47"/>
          <p:cNvSpPr/>
          <p:nvPr/>
        </p:nvSpPr>
        <p:spPr>
          <a:xfrm>
            <a:off x="279720" y="154944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348"/>
          <p:cNvSpPr/>
          <p:nvPr/>
        </p:nvSpPr>
        <p:spPr>
          <a:xfrm>
            <a:off x="5981760" y="1935000"/>
            <a:ext cx="3162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dispositivos gerenciado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êm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bjetos geren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ujos dados são reunid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um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Management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Information Base (MIB)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8276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de gerenci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SI CM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mon Management Inform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jetado nos anos 1980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drão unificado de gerenciament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lentamente padron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81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NMP: Simple Network Management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aízes da Internet (SGM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eçou si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plantado e adotado rapi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escimento: tamanho, complex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lmente: SNMP V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drã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 fa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 gerenciament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58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9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20200" y="2209680"/>
            <a:ext cx="79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é gerenciamento de re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 estrutura de gerenciamento padrão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informações de gerenciamento: SM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se de informações de gerenciamento: MI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perações do protocolo SNMP e mapeamentos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rança e administr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N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o SNMP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4 partes bás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4800" y="1500120"/>
            <a:ext cx="847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anagement Information Base (MIB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mazenamento de informações distribuído com dados de gerenciament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tructure of Management Information (SMI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inguagem de definição de dados para objetos MI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protocolo SN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porta informações de objeto e comandos entre gerenciador e gerenci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apacidades de segurança e administ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ipal acréscimo no SNMPv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I: linguagem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inição de dados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32920" y="1465200"/>
            <a:ext cx="5054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ina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taxe e semântica de dados de gerenciamento bem definidos, não ambígu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s de dados básic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retos, cha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CT-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de dados, status, semântica do objeto gerenci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ULE-IDENT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úne objetos relacionados em módulo MI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5291640" y="1585800"/>
            <a:ext cx="28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Arial"/>
              </a:rPr>
              <a:t>Tipos de dados b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5354280" y="2098800"/>
            <a:ext cx="266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er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signed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TE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CT 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P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unter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unter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uage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me Ti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Ono, Karina</cp:lastModifiedBy>
  <dcterms:modified xsi:type="dcterms:W3CDTF">2014-08-29T14:33:57Z</dcterms:modified>
  <cp:revision>119</cp:revision>
  <dc:subject/>
  <dc:title>Chapter 9 slides, 3rdedition</dc:title>
</cp:coreProperties>
</file>